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8B89-121B-4D97-9DBE-D421CEE8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077A-F68F-456F-879C-C7972944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2CF06-6EBA-43EF-9695-5F1E9D47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91DB4-44FE-4E83-A011-B0B50B4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9B4D-B03A-4EFC-BF45-D05A9E6E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50E8F-7FF4-415C-B1F8-83157FF6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41FFB-96F1-4B29-B84D-267B521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E010F-A107-4B29-9C03-E5C1B2FE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B8CA5-3CF6-4A33-820B-1421E7D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07D00-3E3F-4936-8309-84F81FC2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D42B-D744-4EBC-B8E6-7A7C2C27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58DF2-823B-4ECC-8359-5A82238F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A1B6A-7893-47EB-89D4-B919A047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0F2F5-84C4-421D-8FB9-4C442B4D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16B87-E8EF-4804-BF52-52F478E9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6CEBA-C805-4BE2-9554-2BF006CC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E644E-BCF4-4121-A0F3-1B665EF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0BC6A-42FC-4691-BF0B-142E8648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B757-88D4-4339-8041-875ACAD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AA271-C7B6-4391-BF8E-CA6A47A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F445A-0832-41E8-9D0E-275CAC0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F976D-FF1A-48F9-960B-81FBA52F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4CC08-3B07-486F-9890-32FAAC75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ABA1-D58F-413E-9416-17158FCC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DEE38-8F54-41B8-8339-622EEDAE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44918-F78D-4533-ABD1-D01A4AFB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4CCCF-7D63-4E3C-A455-D819017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A227C-0DFD-40A6-BB6A-C5BDB6ED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55409-D0FC-460A-B874-1A8284C1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7F462-C9F3-4F5F-8A06-C54B966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AA0C6-633A-4BA6-AE27-B4B1F77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0D68C-0C1B-4EB0-A277-8B180BC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134-02C8-42CE-AEE5-B537A445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66D73-7CFD-46B4-A0CA-7491E631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E9C02-8827-409A-A6F7-8C2FB8EE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8F0E1-780F-4ED2-B0C8-937BAF74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C9639-7DD1-4A6E-B12E-6348900A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02D74-1593-4B2A-809E-DD3843C3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7CFD7-EF39-40F6-A50F-D8207AFE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D8D60-0CD4-4763-8400-B94CA5B0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AD6C3-1C3A-4E5A-99BE-FDFD8E3B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F2AFD-6571-45CD-9E8E-68EFA596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12FBD-C4F6-4324-85A6-62A5FF5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923-F264-4755-902B-CF5ECDB2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C66BD-42A0-411F-89DC-EDC3A83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FD30C-085C-4513-BE90-D55CE66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5ED51-F9FB-4D51-8F96-C41FD7A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509B5-B969-4428-9D07-0D7810A3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BF159-6DF7-4EED-890C-AAE51530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B1B2-ACB9-49C9-8CE6-074FA4DF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55144-2D61-48A0-8FCD-669CE264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CA578-D424-4EE4-AD42-A545A899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9916-3F93-418D-9AE3-1755E769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7D882-ADEA-43FB-87F9-DE1492C3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045-FA50-4D4A-8A41-8CA636DE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4D99B-914D-47A2-809E-6E3CEA6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DE583-1C0D-4B48-B3B2-6986658B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68B60-8150-4B39-A704-95231F5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E8842-181E-44A4-A65D-7055F984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57951-0B7A-4541-94C3-69392A7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038E7-9B6A-4F8E-B2F0-91D16B40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64D8D-9DFC-468F-84E4-94080E85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CE56C-1CA1-46EA-BF27-EB0A2723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C4747-457B-4319-A66C-0153C4A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CF3C1-D6AD-482F-8EDD-24A6B43C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388-572E-4AF0-B488-42AC256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168F2-D827-4216-8DDC-8F5EA892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23D64-F530-4F89-9A8F-AEFCB3A7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71CA5-F8FF-4010-B475-17C57A0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DB22F-A8D2-4FEB-B318-CBC9F12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E572B-4E77-4CD4-927D-5C9C4418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53BC4-DB6A-4951-8949-89A0B0D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C8799-CD30-4FA7-A945-06D2B2E4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3E45D-35DB-455F-A2B8-FD39EACC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30E17-B19A-414A-842F-FA973A93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9C1-4DDC-4AF0-9694-8895FC31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11A-FB40-4BD7-90AF-8760C17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9C0-3111-4C91-A092-10A581E3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C41-F9F2-4B12-98FF-7ACFAA70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BCD-8C12-4FA2-BCB6-B8E327AA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A50-1188-4B97-8C9F-6C5F9E26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F1F-302E-4119-93DC-8684DFFA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93B-120C-4C1B-9B08-2EA4D018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8B6C-B9A9-4D8B-8F61-0C86EA50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160C-B9BF-4CE5-A3BD-EB342249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7D8A-EC6F-4B09-90C5-7BA01DC0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539B-403E-4233-BA8C-D95FF1E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1FDE-8FA8-4C09-87B4-5FA21DE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A442-D399-4485-A2C2-C8F5A03C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9BE2-A404-46A2-8899-2099B35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0293-EE09-4D58-A8D9-9AE86BA1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9324-4E73-4E4E-9C70-CB919D2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087E-D94B-498A-8D6E-41F325E8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359B-9997-4C2F-974B-CA78351B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D8B1-3A26-4A63-A76A-4CAB1689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6DE0-592D-4A87-9A5D-E539C427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1BB0-F2A2-415F-BB5A-C403504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BA41-5B47-4A18-854F-11AC580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172E-87BC-4962-A96C-E565CAFF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770C-9B48-4B3A-AB3E-84657ECB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A5D0-EA95-45B7-936A-33B12049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5B70-D9D9-4336-BFA8-DC6A121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A50D-49D9-4C75-976A-59ED02A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F564-ECE7-4E20-9FA5-CB96E42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766F-2A0A-42BB-81F2-A3E07757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2B15-CBCA-4C7B-B8D0-F23F5F2D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7F94-04CE-48A0-A633-339B87C0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9B71-20C1-4A12-8D61-A1CF2104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AD41-F0FF-4008-ABC2-EE732DFC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00740-F2BC-4A5A-A281-504ABC4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C39A-58C5-4131-8948-CD51623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F9A9-B28E-4B35-BC9B-D8C097A7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01CD-F1B2-4752-B564-BF6B5210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42D1-608A-4972-9B7F-33ADB7F7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0F1B7-B077-4E37-9FB4-D6EF358E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A6B2-B619-4159-9085-91B952F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473C-BC09-4BE1-A7F3-00327887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BC822-92A0-4455-92ED-720F3C16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D327-DE47-4F71-95AA-DC594F39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03CDB-DD0B-4421-B76A-80B487EF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EF80-6BAA-4FD9-AF4E-F050EE64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F2B2-6497-47A1-97CA-4D067DAB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FA50-11BA-4119-8B77-E517C99D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24F7-C29A-4FFC-B05F-E5CAFB0C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7E51-05F2-46FC-97F5-28190463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C8B3-61FF-4354-A60A-28EFFD0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7587-7750-47FE-AB73-403A08F5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DCE5-1E1C-4351-BE34-7A8810E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A9CB9-D131-4F11-88CB-2210C572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6540-7B92-4B80-9A34-D61CFE9F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AAF4-1337-44BC-9748-E7600DEB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B96A-D9DF-4140-99EF-38E9017F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D0D1D-7D13-41EB-B34A-E35670E0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E499-6C38-4446-8360-8F50835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6C08-2526-4D9A-8D26-C274CC50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235B-CE7C-46CC-B0EF-106AE05D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0548-29C1-4A19-A246-90287BBC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BBB07-938A-432F-BE2B-C1AAA2AD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76CA-DA4A-4907-9B47-7FE2FCC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3281-3AE4-4522-B781-64D048B2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20DB-748F-4C8F-A345-E0C5F30E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5F6CC-4A38-4049-8EEF-EFBED502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E6F9-92BA-43CD-971D-5A75A6C9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A889D-C4B1-44DE-BC92-8EEEE363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F436-1269-4E81-BB29-49FD4965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5BAD-D7BF-4DDA-8EE4-222A784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34DA3-78AE-4645-9444-4D1F00C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94DA-4CE2-4277-9403-33CC80D0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8EE64-6877-49B8-BD67-CC90CC5E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B6D6-E9F8-44D1-955A-DB1CFB2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F0E11-F227-4331-8E90-17E8F7B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3C155-CD59-48D7-A2E8-E2144F9E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AB2D-38A1-4A36-8CB3-D9B7385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5ACCF-0D97-4CBE-9023-6E831E98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614C-D7F5-4497-834E-7FBB2081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5E3CA-3BA6-44C3-B18E-067387B1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275D9-DBAB-44FA-B4C5-854E290D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3945B-FA05-4D7E-B719-239A4320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43B-D266-412E-A9B9-63C0F0758D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CF1-9142-475E-82CC-5680E620F1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6E47-6CB5-4103-B16C-8A8B359497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8A23-8E65-4ADE-9B1B-A532CDB703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311F-1B34-400F-8A8F-60B72BA843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744-469E-48AC-ACEC-4E7A94B263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4A3D-6F20-4F6A-A391-47E6372C9F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90F1-5B2B-47FC-B904-53A792946B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460-4BFD-466B-80DC-6432DC61FD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A84-34E3-473D-9474-629A138883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5DD-33BD-4994-8DAD-871E029C88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1F6-FB62-4CD9-8538-7D0911FD14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Romano-Catol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9" descr="teologie_catol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34E6-6929-46C9-A7B8-32F3889A81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51:10Z</dcterms:modified>
  <cp:revision>54</cp:revision>
  <dc:subject/>
  <dc:title>Diapozitivul 1</dc:title>
</cp:coreProperties>
</file>