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40BA0-ADB2-4337-BD66-0427C7914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Substituent număr diapozitiv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D7E39-BDDA-4335-BA4F-24B6B77F85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281BF4-2DD6-49AF-99A1-4446F182A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8F9C81-A815-4439-B6BA-ADABBB5AD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E9ADD1-4305-49DC-8A8A-22445957E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D55370-E858-47AD-AFB3-F6D5EF11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96B00A-6864-4A03-AE86-F8A87137F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1D39A4-E783-4099-9536-6611723F1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E211F9-6C1D-48A2-A099-F8283285F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79F546-5FB0-4724-A615-D533A30F9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68091-4C13-451A-8763-16553C9DB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6CB970-AF3C-40FD-94B4-BD32DE682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F4B749-A72B-478B-9147-C65D5EE35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9A6A9F-DD65-495F-837C-9A2249B01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A71D7D-FF7A-44D1-96CB-8206789F6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42FD52-E91F-4538-A134-55F451FEB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FB4CCA-9605-4DF0-86D2-60FE37C37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CEED15-9A61-4C37-B752-A4A2C902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CAEF87-329B-4459-B528-020FDDAFC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3995D5-584B-44F6-AA41-D7790FCF6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FCCFB1-CD0C-448C-8D0E-28D322EC1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B4F48E-631C-4477-8DE0-E8A190CFF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F31D81-B771-4748-96EC-F04D380A4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86D115-3EC6-4C9A-AA37-A98D1708A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AF6FF9-AF2A-46A2-AEAA-3FA9C92D7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098E14-AA48-40B9-AB94-1B60CBE1C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881A8A-1271-4096-A56E-D0CC410DD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216559-FA9E-48A2-8CC4-98EBADE01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5D4E4E-7358-45F0-8895-3E972DD01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4EB45C-4894-4B71-822E-9242F8ABD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44047B-9539-4761-9A6A-AA466A669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A5BE46-C52E-44BB-99FD-71C521AD9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B0EA-8F5C-4228-A140-2FF1446E8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F69A54-A730-4AEA-8C90-CB34ECDAB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5DA36B-F47A-4B54-9863-53A7A103A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83124D-0B6D-4525-A168-0EBA1EAF6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A02DA9-46EC-4E89-B56B-61081AF42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E9E1B4-2EC1-400F-80B4-7C63CA643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AB13EF-471F-4504-8746-0C865F4DC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66A912-9284-43BF-B4C6-F77E16052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482E6E-AD51-49F9-B797-DCD9BE964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A59676-17EC-44BB-A614-59FF4FCA5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9C2553-3201-44BA-B3B1-6ED35562B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F36C-4F4F-4E1B-A0B9-97BBAAC8F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D7B29B-77F7-4B39-879C-67E35D110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EFF81B-40E2-4586-AC88-A14666C0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33BC3D-0B79-435D-8F89-8AA6D092F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5DB821-2D69-4633-B369-EC82AA0E7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5499F3-5AB1-4484-9D06-127ECDCE3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AF519F-AEA6-4ABA-AF69-CA73C495D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A0BE74-29E1-49BD-9F1F-32C722C3C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6F9F47-B60E-42A4-A5A2-CF10E494D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256C4F-B106-4893-BD4D-30E173988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627733-11ED-4BF1-9288-F0408440D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1FB4-1D7E-4C1A-B008-D45B853F7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1DEB9E-6DF4-4F7F-B37D-6C354F80A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CA992A-B0F3-43AF-AA3E-86D146247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2DB94E-7E1C-481B-AF20-691CC8DD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D906DB-2CCD-41AA-9BB7-AD070B55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2D17DA-A75F-4E3D-B8F6-4DCC28EAA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74F5AE-7491-4FA2-AD7A-0C91CE2F4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00C7D8-DBCD-4875-A248-EDCBE905A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630C0A-161A-4E7E-8103-041DC94AA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454741-92C7-49D2-B493-9BAB62D44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06EF14-38A9-4DDF-A00C-16E1E730E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26E4-20EC-4CF5-92D2-01DEDA22F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F61231-4E5E-44D1-9E54-2F4B27128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ABD447-4689-4CCE-95F0-50498CF8B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67FA24-930A-43C7-AE22-38A5E830F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6CFD69-C29B-45EF-91D3-214B4FB6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60C72D-2727-4E77-8C25-C9D62ACAA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AA4CA2-7C4F-4A72-A23C-84D7AF515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5AAD3D-8D73-4F94-915A-2D02E152A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4D33C6-1C78-4A92-83CB-661B5DCF8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1D833A-A537-4F33-8982-1A6B9C11E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D237-D1DB-4106-A11D-F6EF7E6A3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18A5-8222-4002-AE41-E6C54BE6E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DF38-C873-433E-834F-4940BA17D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5B92-9EC4-46AA-97E2-26726F6A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33F5-255E-4529-8E41-A6EE609C4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9F2D-55FD-49ED-9612-D72296802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F877-0228-40A4-81BB-26F114642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1A3E-35F1-44FE-952A-A2ACF15AD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4ECF6-FE34-4B72-96A3-EA94B6956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E823B-D4EA-429C-A1DB-2DB100ACF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F0E38-93AE-441B-8AC6-28DA1B767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BD66E-D51A-48DD-AFC0-A9134B38A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E352F-FCE6-4DBB-BE3A-F299303D5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84BD8-6CB1-4C76-992C-CAB273270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16B41-6FC7-48DB-A776-E4C098CE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045D6-27BF-4C16-A60A-6AADC738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08413-5AAE-4673-BC70-EB573BD6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0F93C-E6B6-4CEC-9E73-7CF0D47C1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092E8-29C6-4683-B6A5-2F4AF8B2D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9EF08-5724-4CD1-ACE3-F98EBD3C4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6ECCD-441F-4C7B-A5BB-4B4F1D1E2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EB1AA-05D7-4E86-85CE-A95416B19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7133B-F707-4888-A91B-17E9093E9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B2641-9FB8-463A-A2D4-100830F79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6DE5D-210D-4CBB-BC3F-A03A30119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7E0B3-3FD4-431B-BB4D-444AD5639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04D0F-0960-404A-8C6C-FF0FEC245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A3C9A-A207-44AF-99EB-F93D7D13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9E3D7-A09E-44F0-B137-B4E37226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43FA8-1562-4954-9960-327B24F24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19D75-9C43-4745-8F2C-4B8A27F41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8D8D6-E436-4B8D-AD17-3504ED549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26C6E-F42C-46DD-A846-08A8BD07F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9CBB1-CAE6-4881-8857-F3EDAEB27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F6CB3-E1AA-4EF9-ACFB-AFCF6A033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B4D5E-66CB-401C-AAFB-76B706A4F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37897-E701-451F-B7F4-B707F913F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ABD48-8358-4D8A-9004-041B4D3C3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EE7C4-82E3-4B0A-BBC5-4AB52AC23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A7727-72AF-415E-B142-8D3FEDAC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169BB-2450-4729-8FF6-A10EE2A0D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5FC08-D724-4705-B368-D24119429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2F63A-CEAF-4CB7-AAA0-64926E4AA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D3BC5-4627-4ADE-BE92-F3A154D17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361D19-CA22-4154-9D25-89D01336A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F543D-4D07-499F-B1EF-F6DA9160A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A2060-F605-412B-9B67-543AE41B1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8112A-784A-4ECA-9659-77E5C99CD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565CBB-CFEE-45ED-8D88-03FFF1155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EA585-FDEC-4E2A-8D94-84C21CF3C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E827F-B1F5-4DDD-87E2-3F3BDB100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FCBFC-8972-43BC-B16B-35C2B1CC6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8C9247-65E7-445F-AFCB-B0884A17D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0E3E43-670F-4B25-8ED8-AC44CD3EB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B9D8D0-655E-4A70-AD8C-DFBDDB5A8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FF10A-4A9C-4D09-9C33-9F98ECA80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DA1E7B-AEF6-4AC7-BEB0-11D59CE42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B835D0-D4F3-4123-BF6D-47FC7D3A5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89BCB6-42DB-40A6-8ECA-47657B9B1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9B2118-EFFE-437A-A1A5-1B2103EDD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712DE5-38C4-4E54-BABE-706C301D5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557C10-94CA-47C2-A850-11FE8C38E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880704-488C-48F6-B04B-55B7211A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49153B-97B2-408B-923A-5C44D7FF5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7C7425-E855-4F3E-8601-9552068E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C6DECD-DB55-4B37-B0C4-8F0561CB8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266ED7-D019-4E69-A5C5-2F9D84C49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CFA0DF-8F4C-4471-BEA0-27B7CE556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E3BFAD-3F8C-401C-81DE-B4F29697E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08EEA0-2A7F-4CA4-8FD4-F802E14B2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40AFFD-DD2B-48C4-99AD-7C3ACE176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F98A46-6310-4FAC-9E76-6F43F2EBE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21B9AD-A4DD-4679-8C13-F600E6249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1B13D5-1653-4BCE-A7B6-7595D9915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F9540C-D0B8-4D2D-8ABD-A52772255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E4A06F-9DF6-465C-87A8-7E23A405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5B6FFA-BE52-4983-B965-6C1A166DD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3C00BB-EF8E-4DB1-8E45-E2AACDF98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17A610-AA85-4958-88F8-FBF4C14F5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A890DD-7CB1-4C11-A1F9-9C70A55F6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1FF215-B67C-457A-8A2B-2F7128870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1B8743-0B25-4001-81CF-020B1A290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2F37FB-B3FB-4483-B806-C6A5D664A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Teologie Ortodox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" name="Imagine 7" descr="teologie_ortodoxa.png"/>
          <p:cNvPicPr/>
          <p:nvPr/>
        </p:nvPicPr>
        <p:blipFill>
          <a:blip r:embed="rId3"/>
          <a:stretch/>
        </p:blipFill>
        <p:spPr>
          <a:xfrm>
            <a:off x="3505320" y="6172200"/>
            <a:ext cx="468360" cy="51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4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Teologie Ortodox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Imagine 7" descr="teologie_ortodoxa.png"/>
          <p:cNvPicPr/>
          <p:nvPr/>
        </p:nvPicPr>
        <p:blipFill>
          <a:blip r:embed="rId3"/>
          <a:stretch/>
        </p:blipFill>
        <p:spPr>
          <a:xfrm>
            <a:off x="3505320" y="6172200"/>
            <a:ext cx="468360" cy="51264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23FC5-EF4D-4000-BAEE-DCF7748245A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8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Teologie Ortodox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Imagine 7" descr="teologie_ortodoxa.png"/>
          <p:cNvPicPr/>
          <p:nvPr/>
        </p:nvPicPr>
        <p:blipFill>
          <a:blip r:embed="rId3"/>
          <a:stretch/>
        </p:blipFill>
        <p:spPr>
          <a:xfrm>
            <a:off x="3505320" y="6172200"/>
            <a:ext cx="468360" cy="5126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D16F9-2F09-4988-9FA1-5433AB05A0E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2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Teologie Ortodox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Imagine 7" descr="teologie_ortodoxa.png"/>
          <p:cNvPicPr/>
          <p:nvPr/>
        </p:nvPicPr>
        <p:blipFill>
          <a:blip r:embed="rId3"/>
          <a:stretch/>
        </p:blipFill>
        <p:spPr>
          <a:xfrm>
            <a:off x="3505320" y="6172200"/>
            <a:ext cx="468360" cy="51264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C88BE-E04C-42CB-A799-2F2A7C7F668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6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Teologie Ortodox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Imagine 7" descr="teologie_ortodoxa.png"/>
          <p:cNvPicPr/>
          <p:nvPr/>
        </p:nvPicPr>
        <p:blipFill>
          <a:blip r:embed="rId3"/>
          <a:stretch/>
        </p:blipFill>
        <p:spPr>
          <a:xfrm>
            <a:off x="3505320" y="6172200"/>
            <a:ext cx="468360" cy="512640"/>
          </a:xfrm>
          <a:prstGeom prst="rect">
            <a:avLst/>
          </a:prstGeom>
          <a:ln w="0">
            <a:noFill/>
          </a:ln>
        </p:spPr>
      </p:pic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9E32E-BC84-4395-9A3B-B7401792D26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0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Teologie Ortodox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Imagine 7" descr="teologie_ortodoxa.png"/>
          <p:cNvPicPr/>
          <p:nvPr/>
        </p:nvPicPr>
        <p:blipFill>
          <a:blip r:embed="rId3"/>
          <a:stretch/>
        </p:blipFill>
        <p:spPr>
          <a:xfrm>
            <a:off x="3505320" y="6172200"/>
            <a:ext cx="468360" cy="512640"/>
          </a:xfrm>
          <a:prstGeom prst="rect">
            <a:avLst/>
          </a:prstGeom>
          <a:ln w="0">
            <a:noFill/>
          </a:ln>
        </p:spPr>
      </p:pic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A20AD-0A19-4E6D-9477-FCE1E12BB54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Teologie Ortodox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Imagine 7" descr="teologie_ortodoxa.png"/>
          <p:cNvPicPr/>
          <p:nvPr/>
        </p:nvPicPr>
        <p:blipFill>
          <a:blip r:embed="rId3"/>
          <a:stretch/>
        </p:blipFill>
        <p:spPr>
          <a:xfrm>
            <a:off x="3505320" y="6172200"/>
            <a:ext cx="468360" cy="512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0B768-CE78-41FE-9F9C-1FC5F85871B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Teologie Ortodox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Imagine 7" descr="teologie_ortodoxa.png"/>
          <p:cNvPicPr/>
          <p:nvPr/>
        </p:nvPicPr>
        <p:blipFill>
          <a:blip r:embed="rId3"/>
          <a:stretch/>
        </p:blipFill>
        <p:spPr>
          <a:xfrm>
            <a:off x="3505320" y="6172200"/>
            <a:ext cx="468360" cy="5126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B3FEF-3AE6-4B58-861D-382CB075833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Teologie Ortodox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Imagine 7" descr="teologie_ortodoxa.png"/>
          <p:cNvPicPr/>
          <p:nvPr/>
        </p:nvPicPr>
        <p:blipFill>
          <a:blip r:embed="rId3"/>
          <a:stretch/>
        </p:blipFill>
        <p:spPr>
          <a:xfrm>
            <a:off x="3505320" y="6172200"/>
            <a:ext cx="468360" cy="5126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596C1-6A93-4CF0-A304-69AE93DF294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Teologie Ortodox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Imagine 7" descr="teologie_ortodoxa.png"/>
          <p:cNvPicPr/>
          <p:nvPr/>
        </p:nvPicPr>
        <p:blipFill>
          <a:blip r:embed="rId3"/>
          <a:stretch/>
        </p:blipFill>
        <p:spPr>
          <a:xfrm>
            <a:off x="3505320" y="6172200"/>
            <a:ext cx="468360" cy="51264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8C1AA-B4F8-4D16-86E7-906052710DA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Teologie Ortodox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Imagine 7" descr="teologie_ortodoxa.png"/>
          <p:cNvPicPr/>
          <p:nvPr/>
        </p:nvPicPr>
        <p:blipFill>
          <a:blip r:embed="rId3"/>
          <a:stretch/>
        </p:blipFill>
        <p:spPr>
          <a:xfrm>
            <a:off x="3505320" y="6172200"/>
            <a:ext cx="468360" cy="51264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9F9A0-23BD-4DF1-9373-2F83FFBB33A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Teologie Ortodox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Imagine 7" descr="teologie_ortodoxa.png"/>
          <p:cNvPicPr/>
          <p:nvPr/>
        </p:nvPicPr>
        <p:blipFill>
          <a:blip r:embed="rId3"/>
          <a:stretch/>
        </p:blipFill>
        <p:spPr>
          <a:xfrm>
            <a:off x="3505320" y="6172200"/>
            <a:ext cx="468360" cy="51264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F0D00-5126-4E5C-AC1C-830F47372BE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6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Teologie Ortodox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Imagine 7" descr="teologie_ortodoxa.png"/>
          <p:cNvPicPr/>
          <p:nvPr/>
        </p:nvPicPr>
        <p:blipFill>
          <a:blip r:embed="rId3"/>
          <a:stretch/>
        </p:blipFill>
        <p:spPr>
          <a:xfrm>
            <a:off x="3505320" y="6172200"/>
            <a:ext cx="468360" cy="51264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51A34-DCD2-46DB-9DD2-736F081AB2E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0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Teologie Ortodox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Imagine 7" descr="teologie_ortodoxa.png"/>
          <p:cNvPicPr/>
          <p:nvPr/>
        </p:nvPicPr>
        <p:blipFill>
          <a:blip r:embed="rId3"/>
          <a:stretch/>
        </p:blipFill>
        <p:spPr>
          <a:xfrm>
            <a:off x="3505320" y="6172200"/>
            <a:ext cx="468360" cy="51264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AC650-A2E8-49B1-B346-54B64531411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4b49"/>
                </a:solidFill>
                <a:latin typeface="Georgia"/>
              </a:rPr>
              <a:t>Titlul prezent</a:t>
            </a:r>
            <a:r>
              <a:rPr b="0" lang="ro-RO" sz="4400" spc="-1" strike="noStrike">
                <a:solidFill>
                  <a:srgbClr val="4e4b49"/>
                </a:solidFill>
                <a:latin typeface="Georgia"/>
              </a:rPr>
              <a:t>ăr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354e"/>
                </a:solidFill>
                <a:latin typeface="Georgia"/>
              </a:rPr>
              <a:t>Tipul evenimentului </a:t>
            </a: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                       </a:t>
            </a:r>
            <a:r>
              <a:rPr b="0" lang="en-US" sz="3200" spc="-1" strike="noStrike">
                <a:solidFill>
                  <a:srgbClr val="0c354e"/>
                </a:solidFill>
                <a:latin typeface="Georgia"/>
              </a:rPr>
              <a:t>(alte informa</a:t>
            </a: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ţii opţional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Conector drept 4"/>
          <p:cNvSpPr/>
          <p:nvPr/>
        </p:nvSpPr>
        <p:spPr>
          <a:xfrm>
            <a:off x="0" y="1447920"/>
            <a:ext cx="609588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Conector drept 6"/>
          <p:cNvSpPr/>
          <p:nvPr/>
        </p:nvSpPr>
        <p:spPr>
          <a:xfrm>
            <a:off x="6095880" y="1447920"/>
            <a:ext cx="304812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2057400" y="2666520"/>
            <a:ext cx="54864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4b49"/>
                </a:solidFill>
                <a:latin typeface="Georgia"/>
              </a:rPr>
              <a:t>Titlul sec</a:t>
            </a:r>
            <a:r>
              <a:rPr b="0" lang="ro-RO" sz="4400" spc="-1" strike="noStrike">
                <a:solidFill>
                  <a:srgbClr val="4e4b49"/>
                </a:solidFill>
                <a:latin typeface="Georgia"/>
              </a:rPr>
              <a:t>ţi</a:t>
            </a:r>
            <a:r>
              <a:rPr b="0" lang="en-US" sz="4400" spc="-1" strike="noStrike">
                <a:solidFill>
                  <a:srgbClr val="4e4b49"/>
                </a:solidFill>
                <a:latin typeface="Georgia"/>
              </a:rPr>
              <a:t>un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Conector drept 4"/>
          <p:cNvSpPr/>
          <p:nvPr/>
        </p:nvSpPr>
        <p:spPr>
          <a:xfrm>
            <a:off x="0" y="1066680"/>
            <a:ext cx="426708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title"/>
          </p:nvPr>
        </p:nvSpPr>
        <p:spPr>
          <a:xfrm>
            <a:off x="38052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354e"/>
                </a:solidFill>
                <a:latin typeface="Georgia"/>
              </a:rPr>
              <a:t>Titlul prezent</a:t>
            </a: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ării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Conector drept 6"/>
          <p:cNvSpPr/>
          <p:nvPr/>
        </p:nvSpPr>
        <p:spPr>
          <a:xfrm>
            <a:off x="4267080" y="1066680"/>
            <a:ext cx="487692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49528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Introduce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ţi t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ext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Conector drept 4"/>
          <p:cNvSpPr/>
          <p:nvPr/>
        </p:nvSpPr>
        <p:spPr>
          <a:xfrm>
            <a:off x="0" y="1066680"/>
            <a:ext cx="434340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4114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Titlul secţiun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Conector drept 6"/>
          <p:cNvSpPr/>
          <p:nvPr/>
        </p:nvSpPr>
        <p:spPr>
          <a:xfrm>
            <a:off x="4343400" y="1066680"/>
            <a:ext cx="480060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49528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Introduce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ţi t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ext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Conector drept 4"/>
          <p:cNvSpPr/>
          <p:nvPr/>
        </p:nvSpPr>
        <p:spPr>
          <a:xfrm>
            <a:off x="0" y="1066680"/>
            <a:ext cx="434340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4114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Titlul secţiun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5" name="Imagine 13" descr="blank page.png"/>
          <p:cNvPicPr/>
          <p:nvPr/>
        </p:nvPicPr>
        <p:blipFill>
          <a:blip r:embed="rId1"/>
          <a:stretch/>
        </p:blipFill>
        <p:spPr>
          <a:xfrm>
            <a:off x="5462640" y="1427040"/>
            <a:ext cx="2998800" cy="3473640"/>
          </a:xfrm>
          <a:prstGeom prst="rect">
            <a:avLst/>
          </a:prstGeom>
          <a:ln w="0">
            <a:noFill/>
          </a:ln>
        </p:spPr>
      </p:pic>
      <p:sp>
        <p:nvSpPr>
          <p:cNvPr id="636" name="CasetăText 11"/>
          <p:cNvSpPr/>
          <p:nvPr/>
        </p:nvSpPr>
        <p:spPr>
          <a:xfrm>
            <a:off x="5821200" y="278280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imag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Conector drept 6"/>
          <p:cNvSpPr/>
          <p:nvPr/>
        </p:nvSpPr>
        <p:spPr>
          <a:xfrm>
            <a:off x="4343400" y="1066680"/>
            <a:ext cx="480060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Conector drept 4"/>
          <p:cNvSpPr/>
          <p:nvPr/>
        </p:nvSpPr>
        <p:spPr>
          <a:xfrm>
            <a:off x="0" y="1066680"/>
            <a:ext cx="434340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4114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354e"/>
                </a:solidFill>
                <a:latin typeface="Georgia"/>
              </a:rPr>
              <a:t>Denumire imag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Conector drept 6"/>
          <p:cNvSpPr/>
          <p:nvPr/>
        </p:nvSpPr>
        <p:spPr>
          <a:xfrm>
            <a:off x="4343400" y="1066680"/>
            <a:ext cx="480060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Imagine 8" descr="blank page lata.gif"/>
          <p:cNvPicPr/>
          <p:nvPr/>
        </p:nvPicPr>
        <p:blipFill>
          <a:blip r:embed="rId1"/>
          <a:stretch/>
        </p:blipFill>
        <p:spPr>
          <a:xfrm>
            <a:off x="1109520" y="1219320"/>
            <a:ext cx="6864480" cy="4041720"/>
          </a:xfrm>
          <a:prstGeom prst="rect">
            <a:avLst/>
          </a:prstGeom>
          <a:ln w="0">
            <a:noFill/>
          </a:ln>
        </p:spPr>
      </p:pic>
      <p:sp>
        <p:nvSpPr>
          <p:cNvPr id="642" name="CasetăText 6"/>
          <p:cNvSpPr/>
          <p:nvPr/>
        </p:nvSpPr>
        <p:spPr>
          <a:xfrm>
            <a:off x="1905120" y="274320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4e4b49"/>
                </a:solidFill>
                <a:latin typeface="Georgia"/>
              </a:rPr>
              <a:t>Introduceţi </a:t>
            </a:r>
            <a:r>
              <a:rPr b="0" lang="en-US" sz="2800" spc="-1" strike="noStrike">
                <a:solidFill>
                  <a:srgbClr val="4e4b49"/>
                </a:solidFill>
                <a:latin typeface="Georgia"/>
              </a:rPr>
              <a:t>imag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1295280" y="5029200"/>
            <a:ext cx="64771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Georgia"/>
              </a:rPr>
              <a:t>Sursa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4T08:57:38Z</dcterms:created>
  <dc:creator>User</dc:creator>
  <dc:description/>
  <dc:language>en-US</dc:language>
  <cp:lastModifiedBy>User</cp:lastModifiedBy>
  <dcterms:modified xsi:type="dcterms:W3CDTF">2010-02-04T12:49:05Z</dcterms:modified>
  <cp:revision>53</cp:revision>
  <dc:subject/>
  <dc:title>Diapozitivul 1</dc:title>
</cp:coreProperties>
</file>