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502C-845C-4FAB-9851-01FD6B429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780F-AF7F-4D18-8A1D-B331055A5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CAD42-9D02-485B-ADF6-E337C3D2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08EC-5EDC-4A72-82DA-509E372B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97E3B-54CE-492A-888B-ECB2E0C5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265E6-913F-4FA1-8BD7-7DF6FA7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3A0E-993B-44C0-86DB-FA491B42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38FCD-79BA-456E-968A-B38B6374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87B7F-4FAD-4819-9496-EE0CAA4B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184B7-0420-4C1E-9D65-EE48FCD0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B644B-05C2-44E2-9E13-99387F3A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9F6E5-934F-46C8-B34E-9F0ED91E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B9232-EEFF-4C3E-B69D-55F55120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55CE9-475B-4C28-A444-F04DCDB7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EA457-556D-493E-ACA0-037A6331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F8C75-6734-4F7B-AC06-701CC67F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0A7F4-130B-4810-B525-F10EDDDC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ECEFF-B006-4081-AA76-A810D6B8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84D53-082F-4E46-AC9B-F34F1264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D6C40-281B-45CE-BA27-94A5CB08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AA5E8-3683-42CD-BC3A-B45F64C5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0BC3C-3A1B-4359-B3BD-47B3FD46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93BD0-81A6-464E-983D-3F54C030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00FA7-C2EF-4A43-9385-0E831F4E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04C79-26BC-458C-BCE4-8CCB3AD6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42922-FF97-4A51-AA1A-5B3A736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377DC-A8EE-48AF-A20D-DFD37A70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C0413-1D00-41BB-82B0-FB2860D4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15B76-E86C-4E74-BC93-A94F645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3614D-2674-4B49-9045-5D13F3F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96B75-672A-43F5-9CD7-9305D76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C466A-0E79-4908-ABC1-86B04B93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C63-64ED-4758-9CC4-74BA6244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1B6C6-97CC-4B63-ACA3-A1D92170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A8AAE-7863-4968-8698-56F862E0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41009-9124-4E25-A081-4DC3491F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B2ECA-C6BF-4445-AC53-01CF6A8E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F0430-21CD-40E0-8D0B-CB2EDF4E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ECE36-AD82-4D11-8636-33ED6F6F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85512-8282-4A58-890E-6AF1FC73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23169-1E7C-4EC9-9254-AF8BABFF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1F250-91A7-4E52-9133-DCC9D367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BDA60-D311-4032-A412-3915419E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20F-77C6-4B90-A29A-2019DA58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66D51-D36F-4E77-89F0-92F37D5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0415A-E6E6-4B4A-B55E-81AF59A7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6588D-D840-4335-B8CC-12A52884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BF452-F504-4A17-AEE1-82CB824F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0AD54-9CE4-4110-8AFA-10419775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7D639-C527-48D4-B91D-5FC907A0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866B2-D74F-43FA-A8AB-84F25AF3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B4C8B-7108-4900-B3CD-4F115ECB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DD906-90C4-4E52-A507-2797B08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FB61F-7328-4EC5-9E93-150C1082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C14-0AF0-45D1-987D-80A03FBA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21F03-E114-457C-BFE4-12DD040E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315DF-2CC1-4642-89E1-7BD0F0C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69173-386C-4FA4-8391-650A4224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99952-53D3-4C4F-B24C-ED86CE98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D2C5C-830A-45FC-8C26-4CEF8519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D351A-DFB9-47CB-A26B-A0453AA6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D7C58-8F0F-4372-B064-E11D1EBD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52DAF-7ECA-4431-BE06-EEA7E375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36BAE-4EBD-42C6-853D-61B3F593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FA7D2-1184-4E87-A79D-2EFD68E2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67D-B6C0-4C2A-BC2B-272FEF56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27DD5-8E72-46E2-9365-4711F698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643E9-5F4A-4B94-A1BA-609EB1B7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EC740-9991-4BD0-9C37-CD08E062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AFC8D-F5A6-4524-A1D7-B513722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07319-4CBF-4354-8B84-B1B756F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3B212-844C-4EA8-8C36-6188621E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925D4-731E-4CB0-A21F-56621130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61CCE-6A72-4F8D-836D-10382846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B79D7-94E3-40D0-93C1-28FE0582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5AE-7CB6-4054-9BA9-8224FB0A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324-3F4B-4243-8137-3DCE3DFA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3EB-BC1F-4359-B411-79778BA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E72-8214-4988-B8F2-523A495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BE8-608F-4F71-9E14-D5FF701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3BE-FC53-4D1C-87C1-854BF2C3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2C6-55EE-493C-99D8-A1265881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7E9-61D1-4BCB-A07F-11AFD4A7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1E60-8921-402C-A188-DB4A2EC3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FDFA-AA9E-48B5-8CF3-E998046D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0134-B82A-4598-ACB5-35F9EE2F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B536-497E-44A5-A312-649AB3DA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6B82-2FA9-42F9-8F52-0127C5E0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6207-6C2E-435F-AC28-27AF4805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091A-CD3D-4995-AFB8-7A612E62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4F1E-2DB8-49A1-88DA-23A4FD26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41AD-B23B-4023-85E0-D0164282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3A6F-8CFE-4AC2-8611-CFDE7ED7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A64F-7375-459C-9B39-EBF082AB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2E8B-1D40-4C1D-B9B1-4695A7E1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EF44-6607-48AF-87A3-ABE5F9F9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E989-6D02-456D-A34F-86E67078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7326-37EC-4F95-8560-B3B31B8A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AEA0F-E95E-4029-8DF0-45B53EA7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4124-3175-4CA3-85AD-B1F9B0F1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D40A-61C9-4DD1-B77A-AE72BF71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E7D4-782B-4A15-94FB-0C45C481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6223-93AD-47C8-B63E-73FE2F4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1483-93D4-4C3F-9225-90490CF7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B051-5503-4735-A6D2-3CB4CD2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3848-EB2F-491D-A285-EF2458BF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3A27-6C0F-4130-AC41-44314AEE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79FA-B210-4B42-B9D9-61F29C46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CB62-7128-4956-9681-0CBC15C7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4E8B6-FAB9-4667-9E07-FEF81A39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8671-661F-46D4-BAC0-8C7A1C2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7661-AC07-420C-B7FB-2173E35E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F196-E178-45D0-B9C3-1E81A76D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A1C00-7EAC-4EF0-935B-06F38F89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BA576-E7AF-4909-8DBE-B452D664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53F9-B143-46F2-B7E3-4F4B0527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5BCE-09CD-499B-B4D0-8A565768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25C0-4713-44D0-A410-6BE73066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91CDD-2F51-4A25-B6D2-E80EBB26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A63D-0B7E-4B13-80B7-CEE98612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F9452-D114-41A4-96DE-F3D31FFC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CFC5E-7057-4241-88E3-D441F652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EF571-8397-43FD-9960-1388517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A594D-28B9-4BC0-B36A-44E2F115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1A08-0D40-412F-9B44-18F7BE6B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FB43-E856-43D1-84B2-0A4061A4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16F3-8BF2-453D-B8AB-A1F60676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5C1EF-F1E2-4E84-B221-62A8833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33B70-B4F8-4AED-8886-90EA009F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803B-AF79-4CCB-A870-6BDD503A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9D49F-0D4F-4A27-934A-7C3EA828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EA25-09BA-406F-8FD5-13D892A2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88EAA-2EE9-43BC-9B5C-9A5B1796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CCE73-57BE-4FDF-90E1-F690E72E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C66F7-D4CD-48BF-99BA-1624C4F4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D289F-F983-4D4E-BD47-E9030346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C5FB6-2600-456C-9EC0-634A26A8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CAE83-B578-4E72-A5BC-11562463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889E-29B6-4055-A5EB-AC942089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325E-1A1B-4EB6-B16F-BECD85A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25ABD-B111-4203-B074-5D90AD87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7676E-69AC-47F4-9F2C-F1F78183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5466-5DF8-4B6A-BB8B-7B19E7E2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8EEC9-C9D9-4371-A6C6-B68667E4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950D7-C879-4626-A61B-75E9D673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8585E-B5A9-49B3-B124-8EE1ED60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0A16D-D5A5-4E10-B15D-16677623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BE1A-FE0A-4C24-A37F-D06FB915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2D5C-4F69-43D5-B2E7-9D426422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809D9-DE6B-459F-BDFB-F79C5E6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C055C-6326-42A3-889E-62E7E004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2DB2D-C909-4BAB-8652-907057D1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DA41C-64AE-4533-8A03-8A2463E2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68D19-8C4C-47DB-95F9-18788048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A99E6-672D-4CD8-AC7E-AADE0762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07AC-B379-42A7-A583-40C861DC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6EEE4-0584-4B72-A5A5-01686A22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CFEBD-8701-491C-BF3B-108151D9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52EB-57E0-4B7E-AB23-B690EFC8CE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66F-956D-4753-BBBB-011AF18410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242B-D545-4836-AFF7-DFF8A2D68E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D16F-3626-484A-A9DF-0D8ABA818F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7A70-BB5B-48C4-9279-472A4229F1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B46B-61A4-4FB0-9E4E-72D9172375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055-1FD8-412D-A3E1-DE732E454E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6B41-315C-4E0E-8E72-EBB1768E6E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A84-2D72-4101-9A75-E2D8B7B07C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9018-AA22-4416-844E-4F8C31AAD0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7DFD-977D-4C88-80A2-85D7456979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8159-63D2-458B-B3BF-B4A08656E8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70EC-40FF-4A7D-A5A7-E41BEACBBB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33:27Z</dcterms:modified>
  <cp:revision>52</cp:revision>
  <dc:subject/>
  <dc:title>Diapozitivul 1</dc:title>
</cp:coreProperties>
</file>