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2B9-2DCB-4B92-8736-694C957FD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CBA2-A55C-47B0-B167-8A7583BB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C8F8E-E372-43F6-9E25-C5EF1310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611CB-2315-4030-8015-7F9DEAEB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C8729-812C-43D0-8A1B-0D28F458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35BF-FDD2-47C9-994C-D689CD2E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FC9C3-5D44-47E7-A3A6-A89E5346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A8325-B8AE-48F4-8A1A-37BA6670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956BF-F6F8-4547-B7C8-64D9B31B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CE642-DC68-47BB-8BBF-0324F839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4709A-2A0C-476B-AFEA-81BD2B5A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DFFF4-1004-4F92-9918-C0DA6912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30EA1-C0BF-41AF-9171-36B9DC50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E3134-4112-43D2-89A4-DBEF154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A8F97-C2F5-4F17-9D3F-A7E4FA8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E3B38-7E7F-4DB4-868B-5C17A471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084E9-08AF-4B37-9725-D0580F09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24E92-E65E-4AB6-988A-ECE9D335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8FDBC-B73B-4271-AD7E-76FC9BBC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91DD5-CA97-4B85-9A15-31D69FD0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9EEA8-AC99-4D39-9F06-62AF038E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5584B-6153-4229-9F25-F65DF0E9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D2533-7CAD-4153-ABAE-70425A0F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E23D8-DCBE-4A80-AD89-96CAD610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E85AE-7981-481F-9F84-4FE58582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3C819-7635-44C0-975E-58C69D68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2D9E8-3489-49ED-AFCA-9F087B57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566D0-55DC-4CB5-BFFB-8FA67C27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4CAB1-5C7E-4CF7-8B00-B3A90A8C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8AA6F-67D3-4562-A885-14FEDFCF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62BB7-D7AB-448A-81D0-4FBA0DC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58732-038D-4BCB-B745-41B535C6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73C-CE93-41E4-B39C-5674D82A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2F6B9-4AA7-424C-9E1D-35A6FE3C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307A9-17A7-4414-9EA6-68752052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6CD23-042E-4B72-A152-78070CBE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BAD34-9E91-4DF4-879C-B98685C4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E75EF-CEF8-4F35-8C76-1F194B2F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E6E4A-DA15-493F-8947-BE849737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B59BA-1CA7-431F-9EDD-01189EDD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812F0-F2B6-497E-A970-46BA0A1F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DD73A-43E1-46BE-9FD6-20FDAE6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03DF2-1F6C-4571-8DBE-C74B5BA1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93A-01CD-4CBB-A3E8-33042450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C04C8-5A1B-4B02-8C8B-3A1A878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6E79C-43C2-492E-B4F5-2F6B7B6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DE6B7-6BEB-4B76-8344-2D07496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9F250-901F-45C6-8328-8A723884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5A419-2002-4CAD-9920-18DCF405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9BB7B-A95F-47BC-BF22-6AE814CB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7F4F3-E42A-48F9-9E84-CA5B7D3A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4B311-2212-4A15-A855-2FB9C334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F212B-822A-4B70-91CF-802BE092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31DCF-998E-4868-910F-8DF365F2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531-F09B-4AFF-89BD-674A01F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62050-3619-4D9E-A173-0CC9FE68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B509C-3FED-49DE-89DD-FE93913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C6A44-FAB4-47C5-BA99-86DF4300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77560-3C2A-4271-9E01-662E44CD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5EF68-66D0-4FB9-952A-EDE2FE0D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7CCFA-72BC-4A62-A9AB-6F2435C1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5CDED-121E-4695-AAD1-6D2D9C26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CA206-B5AF-4A8F-95DD-C5F101F7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6C33E-171F-4EF7-8716-24A2B2E3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8AAD8-824D-4A99-8CDC-B2FAEB18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311-60E4-4C8D-9152-14DD2585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A985D-2000-4D99-A47B-0F9EBB3E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17754-D724-4478-96FD-340E1409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0E5CA-630E-4C8E-931D-390A9D5B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2769E-218B-40DD-967D-E1481EF3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A1640-99AF-4CD6-AA80-C0A499FE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C58BB-09A5-475A-8C43-C401C645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E445C-8BFA-413E-A084-EF906A9A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F8360-5D0D-48B3-8975-9137C97E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67AA1-6B89-465D-BA76-6C74CED5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CB2-6319-4A67-887B-47066969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46E-7C27-497E-8E09-3516D94A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CB2-27A2-4821-AF44-49CF7D25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325-8F46-4984-819A-878B03E5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054-A16E-4567-82D0-38E89B0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0B9-85F6-4A1C-8423-D1D67C5F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423-E351-4622-B427-B731E7FF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AAC-73CE-41C0-8DB3-A1D8CF83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CC92-C639-4FC4-BF18-EA0F9725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8CAB-1084-41CE-9C97-9B72D377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4D45-B826-41DB-BAA3-619076A0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744D-24DC-43BE-9EF9-2127B429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D8A5-9E9B-458B-8860-022A730C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74A9-0834-471A-B6DD-5BE25391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8386-DE8D-46DF-822B-60273EDD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179A-CDFE-4B54-98E1-A18D1C0A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82BE-B033-4DE5-9E84-8487C5DB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3738-D6A1-4C07-B68E-1171E276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E4EB-23E8-4030-B734-E37C83DF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3D37-19BF-4E89-ACD7-CDB0201C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3B81-C497-4D00-8829-4F50D84C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985E2-5501-4CEC-A33F-5C85FBFE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B161-0417-475D-A3F1-3EC533A6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B9611-9569-4734-ABD4-3AEE349F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CF6DC-7A6D-4008-BEC3-D24B36CD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99BE4-167B-437A-AA44-533BB77C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F7341-7F20-4743-B57A-03E006C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6048-8A1E-41F4-8362-C5D3B36F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2C9C-9B61-447E-8DC1-04508DB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8D0A-8558-4225-85E4-D93BDF26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46B7-1612-4FC4-97C7-DD096619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7542-0498-4CAF-9E47-9E715D2A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1DB07-1C25-4C66-BABF-072A48C5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A2A38-1FED-4133-BC45-A5DFE72D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6080-6071-49A4-80FD-E2466C85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0577-56B2-4823-B1B6-61C405A7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54CC-C796-41EA-B70A-E4FE125D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927F-E227-4DD0-A849-7CAFF09C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449A-78C6-45EC-8391-819C79CE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B5CD-1595-48C9-95E3-264FF986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80B35-F17A-4CB1-9F2A-BFD7867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E64E-14B6-4209-B7DC-2C1838BB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2005C-AF84-4E90-8DF5-24813BB2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1DB90-DDC1-48E5-BD6D-0ABEDA28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5073-478D-4940-8320-E0152326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B2B0E-4252-4908-9A7C-A44C7B42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EFBBD-43B2-4D1B-AC92-867DE895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8CCBB-3789-4CC4-9F85-2CE4B020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88025-7609-4F0A-BD94-91C60CAC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32E0-B3CF-4FFD-A3A8-975135D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880C4-5C59-4B77-B22C-07DE5EE5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7426-BCCA-465D-92D8-D7FF07FC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280F8-1B58-41D0-90E5-2F93404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DFD49-040A-4CF8-87AF-7DC563E1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D027-FCFF-46C5-A183-93603807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375EA-11BF-42E7-8F10-31E71296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43C96-896F-4A8A-9CD4-A1195407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43F5A-4655-4E4A-9CCF-FB5109F2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8ABFF-6255-4918-A07A-076C441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C868C-6010-4AFA-8C60-DED187EF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038A1-D55B-4053-AB8D-49BF162E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C8404-54BE-43CD-905D-E8C67F9E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29581-DDD9-4827-AA70-A3594F41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FD2DD-CA38-4544-A9AA-FB430C0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706E6-4733-4933-95A6-9EFF95E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8C5D-4555-4758-82B3-E87852D6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5F4A6-8EFE-404E-9AEA-5D0A919D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58CC7-CD51-498D-A7E6-9CAA65BC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B9B19-A992-47BE-BC81-3AF8D21F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E9E77-20E0-42B1-9FE7-2331E9D1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98C42-D944-48C5-ABB8-BE164FFA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12BA-D707-4ABE-B471-8A39D107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E27FE-24FB-4A18-AFFD-9DE3D4AD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8FBC-FC63-48A8-916A-C532513A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55649-D494-435B-BBD2-C73F797A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C90A0-DD3F-4D38-A1A0-3C0C0174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866E-BC85-4CA8-A248-D3B6919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99912-B7EC-4EFA-8A28-C1F03E33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D307F-4216-43A0-A13A-8BB30099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D2E05-29DB-43E8-8B32-2288999F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5F971-69F1-478C-94D2-951D0EBC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79C57-7967-41FA-8E69-C1F4E20E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A2C98-0E89-44BE-933C-E890A2C8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83A8-DAB9-4D64-AF94-DD4223B727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A72E-8F1D-452C-BE00-A0FDC37F16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23A7-B7FA-402D-BFD6-4CA928C946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D89B-D9F0-4031-BDB2-62808FE3D8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758B-D493-4529-B4BC-6DA1189AD6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6834-FD8F-4D11-8233-1C2FA77AF1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BF3D-CE42-47CE-BBFD-4F3EA1CFC0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D5A0-5A68-4A07-84B8-C1B743181B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FFB1-877F-4150-8BBE-6D0C239ECB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6546-FB48-4FCF-84BA-F25B6FFE097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4FDE-06B6-4D4E-B668-7EDE0D7177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951F-3F86-4280-AED7-C6C147D755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Matematic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matematica.png"/>
          <p:cNvPicPr/>
          <p:nvPr/>
        </p:nvPicPr>
        <p:blipFill>
          <a:blip r:embed="rId3"/>
          <a:stretch/>
        </p:blipFill>
        <p:spPr>
          <a:xfrm>
            <a:off x="342900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9C56-1AB0-40CD-AEC7-F3C796A7EA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26:48Z</dcterms:modified>
  <cp:revision>53</cp:revision>
  <dc:subject/>
  <dc:title>Diapozitivul 1</dc:title>
</cp:coreProperties>
</file>