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7461-4DB4-4B5C-A675-3839CE009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CC34-12B3-4DE2-B717-F81214A47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AB119-B975-4561-BA87-A5BA1D89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24088-64A8-4527-92A0-DE73B1BC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B0BE8-462A-4463-AF42-14A137DE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2944F-50B3-45BF-B75B-00A21DAB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463B4-C2AF-43AB-953E-894F69AA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E8F5D-5DC2-42EA-AB02-1BA29AAD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97EA4-8ECA-446E-B150-E7FC7418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D7F78-273F-4BEF-B13D-D580EC1E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4E34B-BEF2-4E29-AF23-3FE7FDF7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1B44A-4B98-4220-9AE6-69855FBF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AA824-18C3-417E-86FB-AFCF5DAB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CE7B2-6247-4E33-9016-A9E0A6AF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C2E0F-EF06-48D0-9BC4-77E17114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FAD0A-DDEE-480D-8963-6B55AA65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82A3E-4381-4A59-B395-0E286ED4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D1483-18FC-461D-9AA0-D71E16FE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09F13-5874-47DE-8DBF-1970C601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1C690-E1B8-49A9-84F6-AAF025F3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45CCB-1EF5-4409-BF16-40908026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CE1C7-9EB3-4AD9-91EB-3610036E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A816E-C41C-46C2-BFF0-F755FAB1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11358-E070-4326-AF13-92D45414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5AE70-12EF-4181-87CA-4C5855C3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9AE81-FFA7-46C6-99BA-FFAFB79B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72C63-D942-4295-9DEA-FBE15A21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16A5C-6C61-4A2E-B989-7DE5EB5D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DB6D8-676E-486B-AD62-99CDD1B5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652EB-7904-4435-91FA-27AE3284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B26FC-2247-4917-A4E3-4E5C65A5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6BC6F-E211-4230-9C0F-8691D66D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29CB-4159-4C53-A1E9-DF755732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4C7E8-00D4-429A-AEB2-3E8B1154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019E2-9F5F-4E8F-9BB4-48EB874C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18E9A-F9A4-45E0-AE84-AA5B8A46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35ED2-A645-4429-B8CF-FA4CFD7B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27A9B-405C-4EA2-A54D-91BB9C84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361C0-B70C-4249-B7C7-5393FCED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C71AC-1D04-4001-B734-922EFE3E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F1C27-0CEA-4F9D-9B64-1F388FC1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01A35-0A7B-4644-B8FE-B8C7A8E6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07F6E-A919-42C1-B5A2-D5A3E4A8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2DCC-4763-4A57-BE9B-025F628C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B34F0-7A72-48F5-80E0-BD059C21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44AF0-E863-4F95-B945-D94FF721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0F95B-978F-43F9-BB46-149D5A80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B9BE6-6F92-4BE2-8B8B-A20890A9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E92F2-1156-473D-8B4A-BD103948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AD55C-7B0A-4291-8064-E7E93256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AA40E-DDAE-48B8-A0B0-6A0D18ED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EE082-7FEA-4E98-8734-FFF684BB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CA8A6-57EF-4F04-9BA4-85C6D931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84D34-E582-40BF-A752-60EE4D9F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858-CE04-47C3-B684-5C866900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7E219-5240-4183-95B0-27D00162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89300-CAF5-4E65-89A5-10FE2CBC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0B0C9-64AF-4BD1-9A8B-07B1D8B6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988DF-1B86-41F7-8587-0F350D4E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33047-6150-4293-B46D-A95DD1C5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4E735-16D7-4B65-B947-E69BF7F0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7EBDB-45F5-412D-A0AC-164B58C4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E701C-74D9-4867-8476-B7E5FC29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9CC3D2-5192-430F-B823-190DECFB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FEF29-738F-4D71-965F-6AC1CB98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FC9-8CF5-4858-8EED-ED47DAE1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6496C-B482-46DE-BA9F-8381F7B3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DD56E-6F53-4632-9A51-507B313B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E548C-F6D8-44BC-A34B-208162AB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7597E8-1F94-4176-98F2-256A4671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1EC53-9050-4CBD-BA26-6118B7A3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DA672-6A0B-4539-9703-5A01C75D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16CE2-B726-4FAC-B8AD-AED8ED8F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553CF-196F-4531-9C35-D3E385AC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0CB33-52C7-47C3-8EC7-4826757D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46F2-179D-4093-BF71-999F9E1F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A99-4AA1-4C52-A5B2-487A1292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C8B-02E2-4FF4-8DF7-0DF53D2A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B12-72F4-4F72-9D58-780CD193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66B2-11BA-42D4-BB39-C4EB3E32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C88-2D23-4562-A194-A287D8D1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E2E-C861-4E53-A053-66420867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BED-7337-44D5-85D1-AC63F643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0952-F98E-494A-9B78-834BABB2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5337-429E-4137-B9AC-8565CD8F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BBA0-D20C-4DC1-8722-1E6E73F3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7B05-0321-404C-957B-B521AB6E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B43C-8837-410B-A1A9-DE156BD9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AB99-7868-4F34-8F52-DA6CCC0E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9BFE-E7C6-499D-A7FC-6E2A0241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3F45-5E34-45DF-97BA-6319E1C7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FB63-8927-4267-ACFF-D752C981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BCA3-0C17-4096-B04D-1060376C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E3D6-3E51-4B8E-A826-4B784260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DD26-22BD-438F-83A3-4AFB55F9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94B92-FBA8-4594-BD2A-19CFA3EC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846C3-E35B-4AB4-A8E6-79608947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DB30F-733C-45E5-BCC8-4B5A7CEF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C789B-A7B1-4501-9312-AF87440A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2A4F8-42CB-4B8A-B1CD-ECEFFA0A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56AD3-D90A-459A-8673-EE5B0981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F3C27-ADA9-4A67-B6B5-B2AB0696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6CB74-9CF5-4D4C-B989-575D932B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8D841-3510-4DD9-999E-9FD02740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67F32-1A18-49D4-BAA7-E9F406D0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66DF2-D299-4290-BBA2-1AD863DD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3B338-A40D-497E-898B-F8BA15CA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A1A0A-8FD2-4107-B0CD-0F225721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ABB7E-31CC-4BC7-8580-DB46925B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7150C-D3BF-4289-BE21-A6A5925E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7C35E-F127-43FA-A030-9BE32B6C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4EF7C-6032-4271-A9AF-305C715E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7B425-82F2-4BE2-8A22-55E2EE08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06279-75F9-4CD9-8AA4-958D0403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E8766-76ED-421F-B50E-B8086F0A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98E22-929A-438F-8CBD-CD52FF53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18503-8CDC-4EAE-9E1A-04D4C7CE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D4F58-7F26-470B-B226-6963E947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99535-68DE-4CF2-9D41-1BBAEEE7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9C975-1926-43BE-A160-B8A739A7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2A9BA-6E23-43C9-A60D-2A38DDEC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3E8E9-E5A4-45FF-85B6-49DD5824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4B26C-DD7E-49CF-92B9-DF58851E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41F14-8236-4805-8736-53035FA2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C8F97-00C6-4890-BD4B-38EC2D4B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72EC9-3178-4A55-BABA-2401D7FA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260CF-0C04-4E26-A5BC-E940A987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AB7FA-5CAB-4161-9972-67A0EAB8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06B3C-68BB-4BCF-8E1E-F6E48BED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C217F-64A1-4310-B3C5-BF76DF9D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C806F-EE25-4E27-908D-76750F44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99C5F-8EAB-40A7-8A5C-9C35F9C4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DDB5B-6A29-4FAD-801A-FF3F1B52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2C15E-8330-4EF7-82A7-38E3D461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845AF-4B84-4E46-9189-CA1B5A3F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F0CB8-3A36-4FA6-931D-257FAE9E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21C49-C10F-495C-B34D-96F66688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65A43-2539-46E8-8F20-30ECAD47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7401D-4E6E-4306-99B4-DECDACBF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77461-A98D-4B87-898F-2014F038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1D0A2-F4D9-4480-A66B-2750C99B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BCF42-62ED-420A-884B-F6A7742C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ADBC8-007A-4169-8430-DA314897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B99AA-6121-4CEA-B657-D6720CC7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A81C6-32BD-4B72-8E00-66E88A90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C6458-9A31-4C7D-9343-4EACB545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86EE9-A4C7-4F00-B842-52112C0F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0596D-0203-4296-A3F0-850E4EA0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6F74E-5A8B-4BD6-9397-240ECCFD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911B8-B2F2-4CEE-932A-4799DD46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5439E-20D4-4316-BB00-79AF3F86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4825C-4A94-41AE-8A5B-9C90B248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26552-1963-4314-B282-739C9BDA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69562-0B45-4886-9912-7F1D06AC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E1D0F-D106-4FE5-B3AC-660B5231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A06FD-13CA-44CC-A11F-A932DCCB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E359F-1A60-4A93-8A9A-953139F0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2AC99-4528-499F-9072-26B59A36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FC2E-22D0-4F6B-9610-959D05AE62E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2267-AB12-4AC4-BD4F-C1086393194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6FC6-E7F9-4977-8D68-235A79F591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20FC-62F5-4897-B64D-9D1D498B53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6E16-E5F3-4BC0-8BC0-D6CD596967C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997C-4D42-4AAB-ABB0-F03290F3FD5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8758-3456-421E-BC33-E6D47B8F3F6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A455-7052-4866-A364-56A9A0EFE28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F139-91C6-45B9-B7F9-695EF78326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828E-6CED-4702-BB44-3B1F41A11C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ADF8-9667-4DB3-9DC2-CB03B7A76A2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92D6-0B99-400B-BFE0-BE93B582303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Li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338B-8F19-4583-8407-5F597BCB08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1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22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28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2:24:46Z</dcterms:modified>
  <cp:revision>53</cp:revision>
  <dc:subject/>
  <dc:title>Diapozitivul 1</dc:title>
</cp:coreProperties>
</file>