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609C-C5EC-4565-ABE1-D5A8CC002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95D6-793E-444B-B9ED-66232F970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D7A5C-F8E7-4AA8-859D-FBFB5ACC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58304-BD8B-4408-9FCF-03C950EA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56E2E-CC15-44C9-AAA7-40F18871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74556-7235-42CA-8057-358B982D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1D49C-15D5-4815-93F8-E24A97AC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5941D-39D1-410E-95FC-2A3E5122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5E5C1-1FB5-4D93-B5E0-B6EB68DF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65D6B-4B13-4054-8A1F-932D136E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77BCD-6FAE-4D86-A92B-7C2CC31E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2E523-7E9D-4BA8-8181-CE4EB869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5D11C-A0EF-41FC-95B3-CC9B7D2F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1AF7F-DBB7-4677-B3B8-F6AA4C72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32E98-DFDA-4E9E-B5EE-5FBAD4D0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45888-0F30-45A2-8CE4-A9081278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852F9-27EC-4BDE-BDD5-A321A3FB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3D484-A70F-4C72-A99F-23C11E99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96761-6A53-4468-A15C-73E4777C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52E5E-A9AC-4236-B22B-DF49CDFF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10AB2-C306-4590-BC32-2A483661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586A1-1087-4186-96F2-F1915430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189CE-FD0C-4049-8501-8E5EDCE1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AEA64-E261-4EAD-BA92-FCFC0FEB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3BE2C-3123-462B-9473-54E1D485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773C8-A900-4C36-8631-5DA15AD2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097BA-D1FC-4C15-81B4-A0BA5835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66BF7-B492-4F63-A0EE-1111859A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13184-510F-42C0-A8BE-06C088BD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846EA-7BC7-470E-A55D-CD3FFDD8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D5137-FCB2-485B-B35B-7BE0ECFD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DEC01-7956-4E7E-A8A6-9D7823B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A4D-671E-4871-B3FA-95E86B73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F33F9-22BB-4224-8AA7-8010727C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8F715-2B7C-4E39-A89A-B5269182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3FB76-18A7-42FD-A1CD-8778196D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3E2B1-5FE0-499B-91D9-6C2B1889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1FD23-6B0F-4BC9-8EDA-57F65988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A34E2-2607-40AA-BDC4-5E5CB4DC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8C4D6-3DA7-4DFC-AD8A-16F7381D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82B5F-FA9A-47E2-ABA8-2B73F124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BEE5F-77E0-4E96-A3AD-9F4D0778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B54C3-BD5E-483D-858D-C60E14E9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292-AAD4-4CB0-94AD-9E6011AA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909DA-E6E3-491B-B08E-67A6D146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6CF1A-C773-46AB-AFB8-1BB2D2BB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BD9BC-E5F0-4BA3-91AF-5B092417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21F03-4C6A-4377-80E8-AA5AC1A7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51B95-F09C-4950-B83F-9D5B568C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76F8C-DA12-42A1-A9CC-B947B770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FF0D6-361C-49FC-A4A0-96793F27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F3A5E-AE2A-48A3-964E-3BB3B8F8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ACE26-7B43-42AC-BC9A-8E81A93C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58411-FA69-4EE5-BA10-E3B386D8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3A9-7959-41E3-84AA-D75E5D3D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33B6A-BD18-4CF3-B518-B421019C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E184E-C66C-4BD0-93B9-5D7412E3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09611-E01D-48EF-89BA-A33C35C7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8C2D4-E433-469E-9FBF-365E80FC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1B1F3-A383-4B3F-B939-6E7A9F78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E7026-95E2-4350-9322-43422C4A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457A9-D9CB-4268-A0F8-D5B645FF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C4CF2-754F-4299-90BC-1F77AB45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08232-67D8-4525-952A-C0DDAA20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FBDB0-3E1C-48E7-AF22-54D1A0A7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1F2-1E1A-40A7-A50E-A5DA58E5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1488C-CC56-40FB-B6AB-21CC6DE0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2B82F-78B1-4DC3-9856-DB010903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BF043-1E0D-451A-B251-5AF69C87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F581D-EA89-4CDE-8F77-6E16435D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1A837-9EE1-4B90-89A3-A70D3658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0C62B-C334-46C1-98DD-C2BC36F4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BB6BE-776B-448B-ACE0-B57C61E5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2CE8F-4688-4C2E-BF84-C24FA4BA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8548E-60E2-4110-92A0-C5E32865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BF6-A520-4349-95F6-A0BA887F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CC5-2B3A-4DE6-87C9-A3211AE8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098-D9E9-4C8C-BD0F-40B8C47C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5A8-444E-44CC-938E-786D9AD3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165-4226-466B-A199-D7967428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723-2F28-4096-9E79-62EAB806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46E-9CBE-410C-9F94-CF55EAF9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508-67FF-42B5-B634-4509136A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5E57-9373-4F27-AFCF-E9C022A1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2BFA-A82C-4CD9-95D7-B1B09BE0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B908-F337-4F4B-B3E1-04465E60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0953-CA25-4CF0-8850-56719FA8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1C31-FB1C-410C-8142-16083B39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F0AC-DF2D-47F0-B2F6-28701F52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9275-2F44-48AD-9C27-C20A571D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B78A-85A6-4D03-814E-3E4899CE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9857-1103-4B25-8FFC-25823A04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F6C6-7A2A-40BA-B0AB-90211C7A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E682-590F-4BCC-9DC9-43716B67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09E8-4502-463D-B4A2-354D98B4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4BC7-6688-48E7-9164-89223E1C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992A-251E-484E-9114-422D0D26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7CB8C-AA87-45F5-A7E5-36BE05F3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B2E50-50C5-454F-8959-10775DEE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A387-621F-46B7-A74F-0B3590D7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947C9-6B06-49AD-ABEB-D19BF69F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7A00-7C19-43EE-ADA0-714F5614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9CF3-74B9-46D2-9105-CC2FA92E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41E25-E833-482C-ABDB-B7E15735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CD914-C054-4D68-835D-2DBBE084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E3679-3A8F-4BFB-9FB2-4E450923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A041E-815B-443D-9E46-E5D42BBF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0246-5E39-4485-B01A-29725EEB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E8B78-D12F-4A7B-9748-588F9CEA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E6C9C-2EFF-412D-BD8A-F901DE20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B16E-916F-4F2A-B5D8-9445785D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13113-4208-49C4-99C3-39D21D93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A3078-70D1-4AB8-96DA-6969301A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642D-74C6-4A7D-8B06-C8C6FD49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047E9-8DC0-40DD-A857-28C924F4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84ACC-2EA6-4D60-B878-9E6249D7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2BFB9-B31F-4F33-AC83-58533DE6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D755-FC71-4A5B-A868-FF2575C7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7D5E6-BE4C-48DE-AA83-9D06D931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54363-7281-4B5E-8FEC-2A789EDD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84998-117A-413D-B241-838A0DB0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D3B0-9629-4DF5-B48C-8389A1EF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DE228-0A7C-4E5F-9DD6-607A828A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4EF6B-D519-49D1-8CC7-BB94F665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5FC00-6F11-42F7-850B-BE63DB89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EC9D-B023-4CC8-8FF1-28B82D5A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762C2-9EC5-4F8D-9B0D-1CB0DE09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F6727-804D-4E77-9DCB-39969B2B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E9C72-BCD8-4176-B1F5-0CAF6E02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796F2-CAAF-4E75-9A4A-53AFA88D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AFADA-541F-4CCB-ACCC-5F69693D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D56A1-03A1-402C-BA32-8288097D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3CC54-4E99-44D8-83AA-1DECB893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F73FF-C5C9-4E27-A869-41757416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2B690-C1C8-4202-A79E-01F8C6EA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FCB8C-36F6-4E23-B5C8-F19D7210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3445B-0CA0-49BC-9881-8C78ED77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E7B2C-E507-4BF7-A964-5C3725DD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9ECC2-C577-4C91-BD6B-6FBF2AF1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4580A-B5F6-4AF7-8D00-A8815263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DD1B1-DD33-4CAA-8067-E5C42DD6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49BB4-4975-45F4-B028-D92218D2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B5024-8872-47BC-B7E5-E49A2904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35B4D-93D8-4554-BC0D-4BD4B5AE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680DB-3477-4F13-A7E3-3F9AC842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1FED3-6607-4F68-B1B2-D7BC1FF8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81310-574F-4C56-971A-89A4784C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D3AF0-9906-4EA9-8244-DFD8CBFC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6751F-E6D6-41C5-ACB1-7240EFCE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DE767-D0DE-4E89-AC31-1952FFD7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9CB01-F75D-47A3-BE3E-DE8E04F7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E56AE-B8BE-4DFF-AD63-13983F34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E7AA9-D922-4348-8E17-DD068F50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45131-F20E-4FEE-81E6-6705B7AA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55F68-8ADC-47C8-BAFA-D0165BD3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5C2B3-D902-406F-A623-39A55D73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6BA41-D0F4-41C0-9D0A-268D8C69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8BCB1-F2BB-4D93-84D2-CA8C456B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4416-4B63-4547-8A3A-C2E20C966E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4FFE-E479-44CF-BFA8-61832ECDFB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3914-D9A4-4817-841B-EE18345715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A96F-2BD7-4EF7-AD66-FDB6BA08FB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8C5B-90EB-4CE2-8378-06938319F6D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8CDA-90E4-4DD7-A0A3-FDFC780F08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5445-A1B3-4E39-9C74-072681CD6C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7FB3-4481-4210-B14A-F497E66BAE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1E02-38EB-4529-8972-3CD0C0809C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00E6-4BFF-4D20-9D65-791E8AAFF0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FDA9-1380-47E5-999C-358252773C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6C2B-79AC-4B2D-8B38-4DF6F756E9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D967-713F-4088-989A-1D2027F5F6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23:09Z</dcterms:modified>
  <cp:revision>52</cp:revision>
  <dc:subject/>
  <dc:title>Diapozitivul 1</dc:title>
</cp:coreProperties>
</file>