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231A-6EF3-4AB1-8D84-CE4B6E2BB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A8FE-F9E4-4F36-8147-3CA211198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4DE94-5A03-4BC3-8178-2F75FF7E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F4BD5-4794-48E3-A5E3-07F50FB8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916BC-7CB0-4B64-B355-51CD96B4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AA1AF-4BB3-4A45-B936-5C0468C9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92D4D-139A-4A26-95E5-B72073FF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0BA25-5799-4704-8658-A10769F0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B0D4B-3EE2-449C-A8CA-4A24AD24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61D0C-597A-45D5-B5D7-0F78DF4D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E26D4-15F5-4F27-B704-9A5E6C90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02365-D248-4CB4-B45F-277A1E35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5D011-6CEB-43DA-BADF-3099CC6E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6C5D4-72D0-40A9-B1C7-C3F65FB0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67069-89BF-4BAB-9266-95514EDA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5151D-8E7E-4104-A823-C1D8D9AA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621C3-BEB1-45EF-B206-6028F451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F4239-51C3-4A3A-8358-5BAF2970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FE126-8F27-4F12-825D-481220F4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BDC37-B7CE-49E7-947F-070A2D00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44B28-508C-4385-9AF0-1CD5276A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39503-29BA-485D-9E7B-F195A3FE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C15AF-380D-49CA-8875-B9717C80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F3522-CD85-4BA4-B86F-CCC6D3A9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2D8E4-4A39-4DE7-ADF0-50048E21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15D15-EE51-4F86-92E0-D3A81EB4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D8FDB-B838-46CF-81CE-212240E7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01941-9246-4DCE-A157-B0B7E924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1B961-334B-4A17-B522-73E79685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D6C74-5E8F-4F4B-8E03-DBF50508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36198-AC28-46FC-92C9-88A963EB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4BE9A-5E6C-4273-9B4F-9753D3C4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06D-3533-4A0A-AA66-430D625F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D74AE-5E12-45D0-841D-D58A18E2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6E200-1AD8-4069-8EDB-7A261A65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C3CE6-3567-4691-AD63-1E0F26B2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F0678-0F8A-4A9A-B95B-8D198234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44194-7518-4F56-9C06-D031C0F9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37943-E343-45D2-B428-00AF1DD4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BB637-1CB1-4CB8-8479-927629A3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A6832-8FF1-4FD3-90FE-5DB7967D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69955-D7EE-41D4-811D-E1BC876A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0E0EB-B24A-4BD0-B75C-F8569C4B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C00-D848-4DC1-8394-1B69D2A6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EAAED-62EC-42C4-8B69-69BB9762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C38E8-6E8E-4B1C-9C6C-95224E19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A3AEA-45D3-4890-9594-08650374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CC63D-2C7B-436E-B7F3-38625B8D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1E822-799F-4913-87A8-463BA61A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2C5A1-052A-4782-A021-86CF47BD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97049-B0EA-413A-A667-89A15970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BACA1-A364-477E-95C2-05030540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53D0C-B38E-47DE-B31A-499A0721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71FC1-FCB7-4B95-9F00-21B55130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AE46-C7B9-4FFA-B335-A32BD11D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98976-037B-44EC-953B-F4F40F4C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C8C13-A286-4884-81DD-7751D1AF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F7FAA-4D11-4379-933B-083CB583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61AB8-D870-4C28-922A-D2631B89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B97B4-122A-4B6B-BD2E-F95C94E7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A818F-9ED6-4E3C-85B5-727C7E4A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FCC4E-262A-493E-95DE-BD8EF561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02D38-893D-4E45-8198-FF496C22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D709A7-3D01-4E05-A9DB-73F2F392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74FF12-2401-4D84-8368-7CA68AE0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5196-8D3B-4A12-BD9F-E0455CC3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26F32-4DAD-46AE-8B8D-8E2E6FAD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2BB4A-D473-495A-9E21-E21A204E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84EE18-33E7-4726-91C3-3C1FA060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DAEF44-1AA6-45D5-99CB-C3E3C6B5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5331C-4EE5-44E3-8B3C-17935FA4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F3F7A-98D9-4AE7-B1F2-15BEC8FA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95606F-E48A-4FB5-8A65-46752D9B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30E701-FFF1-4811-A8DA-667570BD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4CFDC-9CF0-4B19-A517-B331BA15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7A21-395D-473B-98BC-E6CB7FD5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73B6-2C8E-4311-915D-50BA7EC0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F9FB-B4E3-403C-B575-242E22D6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E931-08ED-45C2-A917-37EA89F1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771-EEDD-469D-A252-F8E49492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E77-ED4D-4B29-89AB-E4E2A73D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185-C47B-421F-A8BA-76CF4DC4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001C-4E1B-48AB-87D0-CDEB1C28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6AE8-53A8-4757-96D7-AF43E927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2769-1AF9-4EB3-AE47-6F1C58F6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F39A-107E-4969-AEBB-8F4E08B6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82A9-82F7-4856-83B5-385987C4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8288-2171-4078-B96C-416DA83A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6401-3CF4-422D-B034-F023602B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BDA4-B491-439F-9906-C6DBCE89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4CAC-A5C5-4C8A-A992-98D133BD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B5EE-B581-4A04-9F77-17EAE030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A25E-F1BE-431E-9C68-1895C2D5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A8C6-F2FD-43FB-81E2-514F47FB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4D2A-313D-461A-8A10-7989CF8B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FB27F-925E-4329-9260-06C24F98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F8D61-C4EC-438F-A207-CF7A7B54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D9340-1C84-4FA9-BA03-7437EEB0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05FDE-78A9-41CA-9093-8E8395FF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17002-C41F-4734-AE9C-E254AB82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B02F1-EE4C-4FE3-9679-B4B62F55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D9FCE-CB02-4CB2-AF8E-1E088BA0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94DEC-BC76-4CF0-BA79-F40BC107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17ADD-2885-4EDF-85A0-52DD7C66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ED1A0-ED3E-4FFB-A893-255FAF3C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A80C9-74E0-4D5A-9FDD-BB720B17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0F296-EC37-49CB-A035-A2285F1E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7C223-C20E-4C91-8592-F4A2F655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8419C-FD61-44E9-9B42-F36F5A4C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92A13-AF9A-4078-A2E9-8DA36309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928BF-B9E5-4D3C-93EF-984DB2A4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24640-D852-4AEA-9125-E25804A5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13E0D-AB48-4D7E-B695-84671E6C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0867D-6D9F-4F6F-AAFC-F11AA9D4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CB807-2136-4A5A-87D1-3EC27F13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A8D26-6B11-4883-8FF6-32EE612E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2946C-6650-432E-ACC5-2E61AA4F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88ED0-FA12-49A1-BEA9-7166C51F5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24EC0-77E1-43C5-88D3-157763CA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88320-7BE1-4C75-9062-F11A9862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2E576-0F8B-49A2-B543-EC7AC56C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76CDE-3281-4F70-B912-4BED024E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9CFCA-8233-4B9C-9BD1-94888B68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374A0-50C2-4A1C-B1D2-A95B0984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92E02-620A-4858-A29D-96833AFC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B5B9A-89FC-4AC6-8536-5886720B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70BEA-D9F6-4085-8BE7-39000F9A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A4191-D6BE-49E8-A97E-25D8FC42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EE467-54BB-4CB9-9F15-B2D57CD8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4158B-58D6-4B3B-8305-8C5246E7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87087-64BD-42B6-8C26-FF90AEF4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FF835-2211-4998-8E6D-11DA137E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8F5F4-74A8-4FFC-B586-FD6AA90F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59884-C670-4A5E-BD4F-97702241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8D82E-77B8-4A57-BA48-9D5C03DD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D6442-0F1E-4969-8A04-C4E39C9F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A3B14-FFE9-4D57-A6CE-BC66E3EF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5809B-1FC7-463B-B234-E0633643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326CD-71BA-44E7-9A3E-3F995681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5FB94-A1F7-41FA-BF17-AF95ADF3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9FF99-AF34-44DB-BC3E-A2717BA2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8E815-4158-4791-BA58-BDDB6FD6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CD2E8-7CBD-46C1-9E6F-E82892AC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1F6AA-978D-44C0-BF5D-954C7F75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10C84-8F93-4529-BFE9-897D4D6F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9D44E-DE79-4EF5-85A2-0F06A009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A2689-E288-44BB-8FB7-3F3663A2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41218-4E19-417E-B4FB-281E7375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91362-C0F1-4FA6-A0F6-B279659F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19D5C-F864-4AA2-A9CB-DB1EFE2B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F0F90-3F75-4AA2-AFDB-B8427931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11942-678D-4B71-8C7E-61DB9BE7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DC8CB-A0F9-49CA-8C4E-46349F97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D0CF9-3EEF-4501-9902-D926AD0F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2D187-A808-4F3F-B295-5B56390A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0C1E1-7D86-48D3-8002-8BDA3D32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F82E2-F9B1-4D56-89FF-71F04E6A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1DEC2-2F7B-47B6-AD0F-EB5796E6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4056-0A91-4967-997A-8F4548BFB6D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99EB-FD1B-49FD-AFDE-B22DF395901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34AB-342B-4648-B4D5-D2B6249476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E01D-F902-4D3E-AB00-DD85BDBD526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7BA1-2B4D-4E57-9482-504B52404A5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77DB-F168-43E9-852A-46F27D641E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1C63-11A2-4734-B265-7425E3DF558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D38B-04E4-4AEA-B3C7-E9B38E97CB5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F29D-ABD6-4C0E-B8AE-90EC507FBF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6F87-5A83-4441-AA5D-263E19ED307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C7B5-3219-42A7-BE3D-ED1BA918CE1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5FAB-804B-44CC-9ED2-DEA67170060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B899-FE72-4D1D-BDE7-6AD41E34AC3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2:21:12Z</dcterms:modified>
  <cp:revision>51</cp:revision>
  <dc:subject/>
  <dc:title>Diapozitivul 1</dc:title>
</cp:coreProperties>
</file>