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94E9-813E-4A73-96C4-007E985C9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0657-9231-4E27-A174-65848593A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EDF94-A28A-4E06-ABBF-A3706A48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B3B3B-6604-4F63-8803-E80B2296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EAEB2-A5A8-44B4-AEB8-3B36B370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283DE-1E22-48BE-A72F-816A4315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3E637-8A96-40F4-A72E-01F51895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80C96-38A9-44C3-B5A8-912A47F0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14898-C36A-4B14-9D51-E2494BA4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16670-A78C-437C-887E-9C29DFFC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9BA52-6D60-41B3-AF02-03C9BD92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FB5BF-682B-4509-B141-8BDFDE24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18AA3-AD00-4B8B-A078-B7EBC3D6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89B05-6846-4FDE-A748-7F37E9BF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80619-1D80-40F3-8DFB-A8C4248A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0EE7C-3FB4-415B-AF52-2542B226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6C0AA-329F-4919-9928-B2643B09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9D17A-0F6A-4C36-B5EB-6E6797E1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BD0C9-7208-4BF1-9F56-A29B8FEF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DC6D0-7CA7-45D6-8F92-E6CABAB0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03A2C-1502-4D94-AC98-7A07049D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489C0-3C22-4672-BFCE-9B3F0CAF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57581-FCCC-43DE-8C55-E303F233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28652-7D4C-444B-8805-6F583830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1EC42-1EE4-4E64-ACD6-9798F962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893BC-F4F8-48FF-B8E7-B5F04D77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811F7-F705-4180-8C21-03C430E1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F1366-A1CF-4A26-B438-49A2F684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B72CD-D40B-42C0-9F15-BBBE6600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6C065-72AF-4515-AE44-F696E186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125ED-936E-42DB-92F5-74B2528D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7B603-CA28-4E38-BF38-80594357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3102-5805-4F19-AC9A-BC8E7E95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4C2D6-67A5-4BCB-9B00-8C7F62AD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E2D82-750B-41D3-9E17-92E8190A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B9BD8-24A2-4FF1-9822-966C92F2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57414-0E31-461E-93E6-CCDD4997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C151B-B655-4090-A0FA-0AE1BCDE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02FA2-37FB-48F0-B742-16EBD018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16914-97D6-4B0C-B9EB-D8566A87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07B36-DD1A-42AD-A853-97FD5197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BC614-18EB-4B83-BC05-0153A671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0C8D5-CED9-4669-AE17-E1817977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5AA-3E68-4972-8813-55675151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916EA-6807-494A-8B03-2B73CD7E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12BBD-2CE9-4178-B158-9773162A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3C525-DEBB-43C7-B450-AFC56646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4EFE5-30FD-46AD-BB21-494B5734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8D888-73E4-49E4-89A8-17DD22BA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C10D6-C99E-4697-BBCC-1174BB1F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B27F1-C2F0-4260-9A67-BCB7E037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58A86-AEF6-4A7E-AA2E-3B2005C4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619D3-8C37-4AE7-93EE-D6AD9380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D0793-2901-4B6F-906E-C158F0FE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3B6-7736-4A00-81D1-FF272E4E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49519-5BD9-4251-98EB-5C82E081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36AB2-94DB-4315-B4B9-E2ABD864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F04E3-E683-4F33-B26C-FFCD831F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3919B-AAF9-4F8E-877C-3C7CFA11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9DDCA-F19D-41CF-B6F2-2CF7CB79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26B78-3B01-4AB3-8E6D-3CD4A760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85DA7-6A05-4090-B0C8-EC101955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CAAE7-4D30-40B4-BE2F-83426E27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E8D4E-5845-4EB8-9465-105ACB15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98CEBC-9A51-47D7-9E14-B7DFFFAC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FC2-9283-4C7A-BDCC-1D9C6447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20990-5862-419D-B881-60231863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50A3C2-7A41-45E2-8187-8F2041E2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B0E7C1-AA5F-4648-9B4F-D56A59CB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E214FC-C2C1-49FD-B793-8C04AC19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686EF-F50A-4FCC-A9BD-57929F45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B4ED86-608F-4C59-9B5A-64B3E976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66B76-A5C5-40C9-91DE-3880BADD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C8A21-012E-422E-9D79-BE9B9032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C7F838-C436-42A6-83C2-E7D361F6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475B-B58D-4716-B78E-5561EC98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7E1-0008-40EC-BD90-6A58DD5B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3E79-968B-4E45-B696-BE6A257B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7241-5ECE-4E0B-9306-EDA345D9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476-725C-4198-A042-19112AE0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DE12-5EAF-47A5-B720-BD9B36FB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0E6-63A9-4C44-99E9-5E27E426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61CA-96D7-4219-9E8A-05F301D6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AA42-B01C-491A-826F-A85067BF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4DBA-04A1-4C1C-B405-BFBE5EA8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1BE3-32E3-4CE9-B182-0A14F3A7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9721-C2F9-4024-B9F7-BA1998BA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F1F8-0A0B-4B94-B730-14D0F404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6305-E53F-4DA6-863B-9C9C7565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F241-57DA-4580-855B-30FBA01D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2590-4F8C-4A10-AAE9-10751FA6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BE6F-4A7D-475C-9815-A2775648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CE06-6FD6-4ECF-99E6-2C503658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5C82-C880-4C43-9935-745A5FA0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06EB-68D7-4035-8B80-6AE46F8E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DE2BF-A1AE-4E94-9647-96AACCB7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E6443-7E40-4459-96E4-DA1770DC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93612-9FEB-425E-A0D3-9E690B6F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497B2-849A-4A6A-977F-9193358D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2EE64-2BF5-4AC5-88FC-2AF87182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CF5B0-3C32-4D6A-AFBD-4E514342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C55A3-83D0-425F-81DE-A0B76960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3CB32-369D-4B6C-9662-EE818A2E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E0D7D-871B-4602-B212-1BFD54B5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6A982-6718-4847-ADC4-4E92C67F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18947-4540-4B74-8840-5DA76B42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D268B-7936-4043-B7E1-CC1B91F5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A19C0-EEE5-495B-A15C-A974A912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619D2-8A8D-4C88-81D6-28F1CB7F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676B2-F3E3-430E-9B8B-2476596A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722EE-7867-4A2A-A94D-707E1E70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A306E-7EBB-469E-B13F-88816184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E417A-0372-4D8B-BD1C-8A799B28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168B4-00EB-4188-970A-F52756CC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69737-CE85-463F-B8C3-CE9C21CC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B4427-46F4-4374-AF31-213BB6C9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6F1F9-4856-4A70-8A31-F4F4555A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90C1F-9C62-4029-9E2F-678CDF55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BAC48-A501-48DD-8EF1-45CD4408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1DCB8-05C0-40E0-B01C-BD1FC60B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8A26F-1C1E-40F0-9CBC-2E100BDE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AB9D7-53EF-4B2C-8B11-F6DA152F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82804-E7F7-4274-BAE4-DA32BA20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89D28-4EF7-4A1E-A7A5-7E78B476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B44B6-D6F8-43C4-B3F5-7FA7E5A6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B953A-BF5F-4B32-BE29-E48DB01E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0AC00-C931-4C3A-8AAF-8B0D23C4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9E545-BB3D-4B37-ABF8-BF8E6700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4EC8F-1E08-4AEC-B82A-3DFD9CD8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F75DF-31F7-4DDB-87FD-34C707EA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9606B-F375-4A0A-A9F7-54C6A9AE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9A87B-CDCE-4157-AD92-60568599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683AB-9A92-4E75-803A-F7B398E3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0891E-8F52-4F55-B0AD-07B07A4D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94635-7EBA-49B6-A3D5-5A95B5A2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82234-62C7-411A-8C86-3109CEC0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86F3C-961F-40AF-B8FF-A4766915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BD738-F2FB-492F-9706-2246712E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4AAA4-3A98-425F-A679-B758A95D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D4A3B-930F-4BF1-85FD-BE5A1C51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A3330-327E-4248-825C-BA175D00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BE22A-FF20-4020-847C-2039BA3E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08B73-A2E6-448E-877D-A3AA97B9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82FA1-780B-460D-B190-D8C650BF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F0442-B615-431A-96B6-42D8DE11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BAF52-76F5-4EC2-9941-BE82C5EC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B4DDB-DFF1-4144-943C-F4F2B222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10B6B-D8CD-4681-ABD6-356F73DF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8A70C-D7DB-43F4-96C5-F98899BB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05428-4119-4177-BC73-39C597EB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69DDC-1FBC-4CE4-A7B1-4C99DD00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610C0-22C7-432D-8376-32ED0357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CB647-3EEE-4AA7-87F1-446B77A7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39C28-6CE4-4062-A786-57C4DD09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845B9-E4C4-440D-98CB-25CFD132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7BDA3-CA80-4E89-A7E4-CE823DDB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C093B-0E5F-4797-8E3E-C3F4AF16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28771-15EC-4A48-BE99-54596AC6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D1C0-042C-48F2-A321-99508800D5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0CD5-1A7D-4F52-8FFF-5F481F0D88A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58BA-2C41-44DF-895A-813372BBB79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1482-C9D1-4F47-A397-5D8040A2879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94B8-C856-4AD5-B02F-FB735D9D59F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F370-B709-4530-BD84-092CF7458D0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1B2C-021B-41AC-B61A-641AC014F93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3862-8E43-49FD-9F15-FC49EE462F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18CD-895F-47FD-8959-5A0968C8A36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4E77-1B80-4E87-A529-B3998EEDD3F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0A39-42F3-4498-A022-78BF6627876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60F8-D6ED-44D0-826C-B97368E2A8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6030-9080-4391-87E1-D21EEFD4A87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2:10:22Z</dcterms:modified>
  <cp:revision>52</cp:revision>
  <dc:subject/>
  <dc:title>Diapozitivul 1</dc:title>
</cp:coreProperties>
</file>