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051-9626-4E72-AA18-C53C76BC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F33-DC9A-4C88-B1D6-B826A90D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811B5-3D1A-4D4B-8A87-4A1F072D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2620-6137-4569-ACD7-56191A1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A94F-4921-4C46-AFFE-6987A3A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5F45-33AB-4734-9499-9103FEE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5FEE-2D6E-44B9-99A2-E253D13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9935-9BF1-4C2F-B974-AB659C9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663FE-2F21-42FC-BDC4-E3F18FE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6AF2-9D8D-4E00-A5F0-91B4B1AD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474D-80C8-4E20-BE21-1B9C2B1F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D42C-1C71-4D5E-BFDA-8CAC45FB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56324-C306-4F68-A357-6963DEC9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6DABB-27E3-4219-8496-BBD9C18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DAD23-B9B7-4F15-B53A-1D56DBA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5A494-0D93-4B7C-9B91-13AEB98A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59906-F388-40B3-B325-86449729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6419-C01D-4E61-94D0-AE4F10D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37BAF-260C-41E5-8BA3-078D499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36B1-0109-4327-94FD-53CEAAC1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6BDA7-32F7-4FBF-A5AD-35B52E3D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25C87-9D4C-4DDD-8EDE-E1391D6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DB77C-2661-40B6-B438-126E7302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99C85-F855-4AF7-BFC5-5932580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25313-1104-4068-A1FD-9E81CC2D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D714-23CD-4623-B8C6-95695EE8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456F4-633D-42B5-B89A-9C04893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4F6D1-DD9B-46CD-A316-84D87247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92BB2-1CC2-4EAF-A9BA-BADED85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0C0D3-10B8-4C57-B7CB-44EA92C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B3A9-948E-4C17-804E-B434B0A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3E68E-ACD4-4A53-8116-4E24811D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92-4A6A-4BCD-AF6E-E4963FE2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F3914-9469-4EC9-9A68-6A811C6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580C6-AA69-46E0-A246-79F082B7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111D8-C454-4CEE-A035-8B14036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36008-B9CF-4D09-B78D-2CB0B983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7CFE-7A03-4A72-A232-4A7E3D7A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D95C-872D-4F0F-BB4D-D4C8280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E4203-137F-4B97-A295-0BFF241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C6C4-D9A1-43F9-8954-72AAC9C6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91E4C-65EB-4E50-9464-6923754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BF54-87BF-4B3A-9D88-2850D97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F6-6244-4F48-8125-FD85C47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668D6-C1CF-45C5-B17D-E40F572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4C8C3-9BB3-42F8-B1F4-FE294F6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C3DC-391A-4FD4-BDA7-395900F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2CCB2-AB85-4F41-B8E3-98DA7D06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1FA0A-54CE-40B7-94BE-6D65A587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5EAF8-C4C7-430F-9E8E-E80199AC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11760-869C-495F-AA94-CEFE3BA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7DA10-D70A-4300-8092-561F979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02DAA-E6E3-41C7-B499-928CE99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F2AAB-9BB9-4464-B79A-347D2C4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AF8-204E-4B27-A7A0-EC19709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8C7A0-CF9D-4D61-918E-824CB2EE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AC8CA-8635-481A-9033-1E1F213E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C8B40-245F-4257-A981-A460C41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B06E-62E6-4587-B344-A34F869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6460-39F3-4C37-9CEC-E187D28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9CE8B-7A24-4D25-8207-E1B9C429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74D34-BFC6-4AEF-ACDA-8263219A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8ADF8-3E7C-4A68-8B54-B81DECDE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6A9F7-C32C-4368-8DC6-9DA3566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00D58-65CB-4554-BB65-B2718F0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744-AF3A-4E5E-8214-50CB662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DD6CE-511B-4C00-9DFE-FF85BD5C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50455-A270-428B-AEDE-53F88EFB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51271-AE61-4F09-9F8C-92D9254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43689-6572-4BB8-A43A-95E755F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F70CC-D7A9-4001-A224-5773716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41F6A-E4B8-4908-8ADE-281DFEC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29B29-A5EC-4AAE-ACD6-D486773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5D0B7-D1A7-4FE8-A04A-31A61B65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E1378-0736-4803-9CEB-F3804787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80E-F0F3-4127-B74C-12D5BCE5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DE9-BD3F-425A-A8C5-18ABCE6C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6EF-DD10-49CD-A09D-E1C2063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A8A-04C8-48AC-91A8-C85BE80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ECC-50F4-43B7-A619-5E8F9B8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FAA-A991-4427-8978-16232B8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191-5BE2-4054-9807-2EEF019C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89E-D968-478E-99F2-3DB424F2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8091-FDFA-4049-AB80-2DF7123D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9A3-ADE7-4EBF-95A9-0CAAE52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101-E532-4C0A-9EF0-C52808F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CE18-08F4-431E-9921-092FC62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01E-A172-408E-8EB4-DB057EA1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D57-B372-4CA3-B583-9A05E86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9B2-C93A-410F-A7AC-CF60D1A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1DC-DD5E-4FDB-8990-9B34A55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4E5-D623-4207-90FE-B023B28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3DD-7E7D-439C-8943-0B5BCA98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711-E8EA-4081-B168-77E992F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183-9FB6-4DB6-BAE6-954DDE2A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13C8-4363-4D68-8D3D-BACF6336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2503-0AA3-4846-800C-1643DB8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90F1-E468-43AD-823F-B1E03BB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91D4-6937-41D8-AB43-3045B4E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0832-8247-4F84-886F-4A4CDBF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B2EC-B90C-408C-A177-CA6AFB4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5C67-579D-4103-A4C3-3A0E5ED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090B-171D-4270-AA82-6F03FD6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8D4B-9AD5-462D-B4D6-3964026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F380-1278-4A95-9761-0A0C248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A2FB-72FD-43D4-B65F-36ABF275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1C64-135B-4AF8-90F3-29832FE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0F4A-F7A4-45E4-B896-2F58D16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AC93-C7B8-45E2-A75E-592655DF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B67E-D2D9-4A36-B2F3-1EB9A90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D67D-FE4C-475C-9966-887DBDF7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E11D-6F19-4A42-882B-696906E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F8AB-B960-4E7B-B578-D9829BE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B080-5EED-4370-B6C2-5E9B6CB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4DED-2EF3-4604-92EA-3BBCEB0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0314-A1E6-473A-B276-E483498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9506-9FD5-4E27-8421-51118FF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5F61-3CEB-4230-BE89-C452F6C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4C39-970C-4446-8E70-AE5F65A0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4061-0934-440D-BFD3-1CA50EE5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5782-D910-47B5-881F-40D36783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ACFD-59FA-4954-8F46-A479E30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0A69-3D37-4901-A245-68283B2F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1060-CE36-4779-A9FF-6B53697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E6F4-34C3-4A90-A0F8-5505AB2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2719-B509-4C60-B405-51808F5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454C-82CF-4E5E-ACE2-1749F6A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009E-FE2B-4791-A707-EF359C0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0B066-89B1-44CA-8A65-5A43079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1A75-5639-49B7-A135-932FCE5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83698-440C-4430-9CC1-EB187BC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9210-1592-49D7-BD58-36BE7EE7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F210-392A-42D8-8029-F9535DDE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6CA0-06E4-4FC2-B1ED-4247ADF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BFEF-32B2-4DBB-A1B0-DB325860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2F51-2DE9-4972-9146-F2D8898B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B6C2D-D659-42AE-A8CC-796EF442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2B86-29D3-4E3A-90E2-A2E81BE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F0056-845A-4208-915C-47A6E89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7E01-1C48-4A86-98CE-433151B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B75E-0A8D-4CC5-8936-639A590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FEDA-9806-4CF2-B0EB-17F7A0AA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D5F97-F1C6-48DB-B57A-2F502A72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ED1D-312A-4489-923B-215A55FE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FA88-3FFF-46FD-A2B0-2D8BCB30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0CB5E-8154-4533-9A75-0FFFF50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750E-879D-4FBC-A9B1-FF302DE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BF4B-8BF3-46DF-8ED9-BB4DEAE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8E22-02F1-40E7-A480-36B83613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7B08-A3C1-4ADE-B9D6-014CED5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BE95-F760-4803-823C-D53D796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AB09-EA6F-42AA-8082-B5D5011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F9F48-F7C8-44EA-8F7C-EA40B076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486C-B155-4F07-8973-F6C3FDD7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EAAD-7748-4E11-9C18-7F2808F9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5C810-5DF3-4678-A724-78ADA089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0D61D-29BA-46A3-B7CB-64383AC2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1092C-77C9-486D-83A2-6503C7A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94D4-C897-45B2-B4A7-2A199C763D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E71-ED13-45DF-8927-571FA6E6AB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8A5-424F-4D8B-8398-0001B4E7AC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2338-2899-4C8F-8878-2B5882CF0B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2545-D308-4B31-9B76-8946560A3C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7185-77E4-498C-9749-040A5EECE4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704-357C-4FE1-8497-E425FEC93A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12F0-E5AD-4D37-A912-2554E3D8E4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3C3B-DBF9-407C-86CA-6C4E72CB68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E34-CA15-4390-85FE-5A3C62C312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41AE-2AF6-4892-B258-0D9F1179BA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A9CB-76EA-4C61-8BD3-BBEDF962C9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D73-CD89-4CBE-BB55-08E98CE9EE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04:18Z</dcterms:modified>
  <cp:revision>50</cp:revision>
  <dc:subject/>
  <dc:title>Diapozitivul 1</dc:title>
</cp:coreProperties>
</file>