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004-DF72-4976-A071-BBC7ED60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6C81-D4DB-4788-A516-41F232E4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62BC9-16D8-455B-A57C-65CC0215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52537-3190-48DC-956D-41806EB1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2CCDD-56DE-404D-9512-0EC9E236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298E7-C9E1-4FD9-89C1-DABFCE5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D6A6C-A218-451F-8F35-60C27BAE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2F35-0F5A-4310-AA75-274F1DA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735FA-E44E-46DA-AEF3-D1D7DAB6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0883B-3856-4459-B08F-A7B5688E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6DF5-7126-4922-9C2E-119490B3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9F574-462F-4F77-898A-542089D3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2B64A-B44B-4044-9E66-41A3DFB6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5F14C-1A64-4457-807D-38F5CCE4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A97C2-EB19-467D-9EDD-DDD6C45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45FEA-467F-4D84-AC56-A8006BCB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83BC5-EE82-4B88-B7A3-7DD0FA24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4E100-39CD-42EB-9BEF-7DBA837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3566A-A8FC-4A8A-9F71-11B027C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90018-7AE4-4829-99AD-83B5B230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8FC4A-250E-4C01-8F8B-C24DA298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B2F16-0BF2-415E-9970-FAEAB2FA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AAAF4-3EBA-44AD-A69B-B4C137CE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B03D8-0BEC-4664-ABE8-92D99027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0FBC8-C9E8-4170-8358-82E866A9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7F7F2-D453-4DC7-8E95-E4ED7394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B1878-5686-4E39-B6A4-38BA6A2F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442F6-5DD3-46C1-98BC-EDE5B80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4E289-D4E6-4353-8493-82C8EA0D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97C57-C23A-42E6-B11D-4EC6E77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EB359-32F8-41B9-A460-1E074DD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A6FE3-0215-4A27-B1A1-11B2791F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AAD-F413-47AE-AB40-EA3BB0C1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10C7F-5029-4C5D-B9F4-83BB643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075EB-04AC-43A9-AC28-27AEB901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E108B-0766-4951-9318-5DA5BC92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DE6DF-5488-45F7-AF52-C0C952C9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A8202-0FC9-4396-81A1-B94BCB41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C15BE-6391-470F-B14E-090D54A1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6D575-5561-4069-B90F-701FD1F1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B84DF-7C54-460B-88A5-B75D4AFF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DDB4E-0C52-4024-A51D-8A40F728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450FB-54AF-4A64-974B-F34329E1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0E8-C063-4802-9618-9F105081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89FD6-7937-401F-AB8A-A05E31E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1AE2E-825F-4F8C-B475-58347C1D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3352C-56D0-4C86-96D2-8DDAE19A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9ACD7-9470-44DE-BA7A-C5FE5B50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BE0B4-AAAC-42B1-BDB6-915A6FA3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AFACC-250D-4728-AD75-03D8ACB5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68E45-AC53-4D55-8988-56EF6777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D2EBB-667F-4322-972B-15A96BEC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21DC8-FB6B-4577-A8E9-1762B845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AB306-8D66-41F7-B155-907F79A4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D72-F6BE-41E5-8142-42B9747E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6F733-FDDD-4BE8-9DD8-DA9AA5C3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BACE1-6C24-4E71-817A-AFF3A73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BB05D-E6A6-4FAD-9B9F-AF34A3D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C5769-EABC-4350-83CD-B86C3808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A6829-2101-4ACE-853E-65A8CF2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EA451-0FD6-47C1-B766-EC9FCA3B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9D0BD-84FD-4FF0-975A-FF2B26C9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80059-0D81-4370-88B6-9BB2223A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66AA8-6A58-43BA-973E-A8BBD227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14A58-C919-44F4-9007-DDA87333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F2D-1BC4-4959-95C9-CB200315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1A5F6-376A-487E-94C4-56F0657C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A61E1-71BB-4161-B550-EADCC540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E14CD-F8D0-4EFE-83DD-322A18D8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287F8-BB05-478B-948D-CF2EECFE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06E9D-3F84-42F0-9E29-3589267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2254F-BCC5-42AF-8941-B048D878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4102A-491F-4FF3-A556-AD84825D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4506F-6516-4DA3-9BAD-5981F7AD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B88E3-3F5F-426D-9437-0DA5469F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FB1-AF05-43EC-802E-E8A717CC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BD7-3937-410E-A56F-01E18611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A69-8BB3-4A25-B391-5859E22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5B4-59E0-49FC-A6C5-0345EA45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322-6749-4E1E-A012-2B65E708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417-AE19-404B-97DD-A6A49408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DD2-32FF-4A13-8BF2-B13E8157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C99-B347-4451-BD60-5C3B7317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31D-EA14-4107-A407-D43706AB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2D32-3BB0-4208-A813-43592D69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3FA8-C5D1-47CA-A8C8-5227C4C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BAB0-C52C-4976-81FE-18BEB506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EAB0-E29A-4AA6-9033-7BED7ECC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5BAF-B8D6-4DE7-9F63-4C37B338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F451-163D-4737-972B-EFE91AC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A633-67D4-43D9-858C-3480B809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C40D-B402-4F6B-9702-AD132597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847-5838-4AA3-B78A-F4A57FD6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DDD9-6C21-41ED-A5F9-CD0B077E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DAE6-E931-467F-8A59-15C89952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459A-B67D-4F52-A19B-5DFD8C99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E4E9-D9AC-4A58-9A4A-88A1E1E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6080-B734-4CE1-BE4B-79103C05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FC5B-A222-4E2F-B33B-D5B2CBE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5F68-2D38-4EB5-9216-C8A4CCA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4C4A-C40A-4B60-B8E1-2218DD49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34C7-5AED-44AF-B321-74A68FF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DB7D-37CF-477A-988B-5B9D5A6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7787-2F89-45BD-A347-F2230719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3E14-0806-4CD1-A343-40FEF704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AB1C-15DA-4399-9482-AD1BAEAB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3931-6E0E-4ACA-AF7C-AD8C0624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8C457-74CC-4A5E-A0BA-C4E8D6F4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18EF3-550B-4A2D-AD1D-5FA7A1DE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6636-3C9A-4F62-BA01-E0B88DB7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32D4-707E-4368-BA26-35240722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CD84-C1F8-4CE9-9766-207CB202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4CEB-E0AF-4836-A41D-24DB7FD5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242F8-0C23-491A-9095-979E118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3CD2-8CD7-4B1F-97A8-FACD8C46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75BF-B177-41F2-A914-8EDDEFC6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AF3B-BA86-4B8B-9624-5B791721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C84F-8EE1-4054-BDEF-2A341CD9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67B1-8BF6-4816-ACF4-08F230D2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2371-FA6A-4600-A868-0F56F2F5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EFD8-6827-4AA3-BCF9-3A8CC39A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BACB-20E1-4F65-8DAC-C0DC4402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D760-EB42-4C23-88B3-5B1175F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8CE84-A588-4617-829E-8DD582CD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0139B-A2A9-4CB9-B9D8-4948DBD2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8E400-4FFD-4705-93DA-78898A2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3913-B473-49A5-B892-EB31DBE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370C8-4F06-43BC-9748-814A6F0A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2306-B58D-43DF-BF0A-3B4C5DBF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727C-5F8E-44A7-983C-9C017262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295C-EDA9-49B6-9C6C-A76A0A65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B65F7-CC77-4069-AF94-F5A49242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59F8E-5987-455E-85B2-7E5831C0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4DE70-50C9-46F5-B80C-77476CE9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B1528-2190-461A-A4AD-43328C5C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059EE-751B-440D-A53B-43DC9AF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8E69-0C53-4EC1-A782-0152BAD3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ED335-E6E0-484E-A0F0-93AED3DA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0C9C8-5FF3-442F-9BBD-B6AE5E18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9536B-4D54-442F-8444-D39CC11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B326-3DC6-4761-BB3A-069A59B9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59A6-CAAA-402B-85AE-B5C207C6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EE6EC-31C9-4346-9705-FB4CD9DB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6F176-4449-459C-847A-65748E47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DAB09-688A-49FF-B338-88B14D43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9CBC5-9110-438A-816B-8A83B5BA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91345-812A-4354-89EB-65E55667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0440F-04BC-438B-A13F-D646898F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64502-11FE-4386-919F-10D97B7C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49161-5712-4FCE-A08D-61D0393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42B3E-00CA-463E-B87C-86187E50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73424-F84F-4C14-B6E7-0843429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73E2B-63CA-428F-B2ED-4311B627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BD058-B390-4DDE-8D70-92A3D8DA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E36C-272A-4A6B-9E75-CC98E80C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207CB-F0EA-41C3-BD0A-7CF1BA2B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B782-732D-463B-840C-2357B2D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45204-D447-46CA-8D91-A0C8E29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6FAE-EAE3-4010-8B23-A86B5B6B16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02F7-A43D-4198-8F49-39722E1214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215B-3A46-4509-9CB7-0DA21D195B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C76F-6BCC-434D-A4D7-4A70B83955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0D78-C950-488C-B6B8-031CC9DA5F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39B2-2221-4E0B-8E99-3E6B92B98F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0FE7-4A51-45A4-8469-B9BE570DB6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5430-3B09-4A0A-85F4-6B8CD0D398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E2FB-2DC0-44DE-A08F-C1C0DA0D2A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7C47-3546-4A21-87D0-AD52665423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C869-2D6A-4E9C-ACEB-AAF56F37D0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AD40-893B-41CD-B1FA-A12C46640B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7B8F-9346-45D9-A7B1-A5DD12F797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00:58Z</dcterms:modified>
  <cp:revision>51</cp:revision>
  <dc:subject/>
  <dc:title>Diapozitivul 1</dc:title>
</cp:coreProperties>
</file>