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E58A-43E5-466C-B01E-F19CA3CA6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F003-4B5D-45BE-AA08-C74CC8AC4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F5563-36E5-4C31-ADEF-8FF728B2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35A7E-B0C9-4053-A2AC-5C3EEB2D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F00FA-14C8-41FD-94D6-2E66D2CC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FEF3E-EE4C-4E6F-8491-60A1E606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2CE7A-FCF0-4168-A259-FBB9FB6A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8DBF6-FB86-4F56-AE44-89F6C423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3E212-1877-4424-B5C0-330B9E9D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64303-5E50-4998-93EB-DDF2FA49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9847F-9F78-4D01-9A87-4AEF5BA5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58796-0FAD-4552-88A7-B88F6005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AC822-4100-4EBC-A7C6-3A512A80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CDAC2-4495-4196-A5E7-9FCC2D7C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10937-8EBC-44DE-BC94-41B4CCC2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08A7D-BD99-4899-81E7-B2FF2B2A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6365F-5B6E-47C5-B6E4-E1FA06E4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E6577-0188-4348-B41D-BD0A540A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F173D-93B5-40B9-8289-0F3117F3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BEFD5-F359-4EE3-A4BB-A980E659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D40BA-C123-4AD0-AFF9-7665E860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38DA3-14BD-4C87-8A70-ED18467F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C9113-ED3A-4BA4-841B-4C2773A3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D7C53-6131-485B-AA35-6B74DCDB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61F4A-A2E7-4A03-AF3E-36813BCA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E4CFC-4426-4844-A3EF-50593105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C081F-B52B-4EC8-86CA-2916A736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EF255-F943-4C6B-B4AB-FD7E8ADE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1D4DC-ECEA-4BC4-8BB6-2816D616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C7AF5-F2CA-4AD5-ADD3-7FBB5D87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889DB-E7A2-4AC5-BA4D-7B52D152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E2438-4D29-4A3F-8646-D85F0D10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BCF-EC74-40B1-BB8C-2CC3C43A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17917-1F32-4EE7-9D6D-33642AD8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42936-6F42-4AC1-99D5-E2A9E45E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B8C1D-F015-49B0-8C5B-541693B3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FF1D5-5162-44B1-94E9-483CB689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15574-437C-406E-9DD1-52A0F67A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22F0E-BB7B-4D25-BF4D-6A167107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56AAA-CE1B-4AF4-ABDF-9DB16416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7E0FF-B4EA-4A71-8AE2-FE0F28DD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D88F0-2378-40C2-880D-DD5A174A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4FA12-4450-4957-9CE8-B90B13E5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60B1-5B78-46C0-B656-BF3F111B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A99B7-0EB4-49A1-BBA6-6AE1A1AF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A7F4C-22CF-49E1-AAE0-B6457A99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A14C7-9416-4EB3-9F28-E48CFFCE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A0C62-A499-4F16-9650-3D41CFBC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3CFB4-330E-46F8-8C33-9F401D2A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F4EDC-8A59-4733-B50B-BC4449DD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47B9D-4D55-492C-8555-7D65D30D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B9C66-8714-450E-A5C1-A5F85A84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18702-79DF-4E1C-BB09-1469F2B1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13C70-BA36-4A06-85C8-D88B1452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E9C-7F0D-4BF7-A7A0-1346EC9B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131E8-B3CA-4099-B869-63E013A3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8E59F-C99E-4E77-9C19-5E9F879C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8FF08-C182-4CA9-8D5C-C862CB3A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DD8F4-404F-4D02-BA8F-3CF21230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E1FBA-809D-45A6-BE2C-E5D7E681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07063-ADD6-4B4A-8825-E7AF3E73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BD691-DE33-4921-B4E0-A46F94FB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5D5B99-9669-4F67-BD15-488D9022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3345BC-BFB1-42B1-A5AD-D7568BF4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83888C-1F83-4164-94A8-364046A8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6262-8EE3-4E90-9F6C-C68AD648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035FB0-9155-42ED-9609-663AB708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670C28-7FF0-42C9-8112-98112AAC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6FF485-6E03-497A-A479-2A839B30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2B9B9A-1B78-4A50-A0E1-13858A20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11E1C-C996-49AF-A460-7F08DFD3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A4529D-80FE-4140-89F2-AA907F6E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19838B-A189-4D1E-95B7-22EBA273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084123-3B4E-461E-906B-3A5F3F1F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CBCF63-3976-46ED-A4ED-987C913E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306B-6EB4-4C32-98C4-F2CB9259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2A25-F0E8-4B9B-8F50-4A0779F4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A8DE-0CFE-42E4-AA70-20ABE9B8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9704-783D-4F8B-A817-28D33125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0CDF-CAE0-431B-9F33-837D5FE3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02FA-C1FF-4F08-9422-47A04F50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3F51-7AB3-4491-B1C3-AB20A89F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FAB7-E78E-4E95-B207-15C37B10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529B-3DD1-4880-9F3D-DBEF8AB9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3841-D8E9-45BE-9835-2F9AE279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8114-FC3A-467A-9068-3855496C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C5EB-B916-4A6E-846B-05EA1845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C123-2641-42D5-A6B9-2E3C5B10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8878-D1D6-48A1-ADEE-7D476302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AF82-09C0-4B82-B520-A4607924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EEFB-0A9D-4D8B-95DD-18D25CF8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E68A-8F9D-4200-A240-A196B161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343D-30AD-4828-84C3-71538BC7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7AD4-22A6-4EC3-863C-15CA3B16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D076-2DC3-43B5-A2F3-9AF01EEB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0B5CD-A5BA-4BAE-A368-F32D3533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EE69B-274E-4A28-908C-3F7A3D98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762F4-50DA-47EB-9426-B805D244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9C499-A90C-4164-9DA3-8AB9E4A2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6346E-E885-4F1A-8379-B4739774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B06C4-6426-41BA-B274-FE0EDEB8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20246-CD89-4A56-9440-C66639F7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CD4B1-47F2-4D52-9312-646DA148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2A993-7CBC-4015-81B1-39B36B96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12626-123B-4EA1-9FFE-86F6D794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F22D9-0C9E-410B-9D7F-FE4A35E5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D467E-AFDE-41AD-9E4C-B6F8A73A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65F9E-AA0F-43D7-94F1-EFCFC990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623B3-FF66-4F13-9ABC-223B8B8A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A870E-C9FA-4A40-8D97-9ABDEFA0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48BB5-0631-4ABC-9AFE-C5F18DDA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3EEEF-4BA1-4A9C-BF39-4BF029E7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864A6-6779-4804-AC18-DB14E045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57D07-B33F-435D-98EB-B0401B27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FF79A-1CA8-409A-AA49-069483DD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53FC9-C7C3-4A73-B262-3747F18F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1DDD7-2E28-4C9E-85B7-A7AB2986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90E9B-2987-4EFF-BAAB-ABDA7337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70D2F-FBC8-48C2-BBDE-4360B99F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4E41A-897C-46BA-9829-79A12152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F165D-D902-40CC-BE53-1CD7B69E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32BB6-737F-4DBD-BCD5-6E4B66EE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E59B4-F817-4106-8F7E-F6A0F543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AECD2-0909-4A4D-BE6E-8755D0B7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64541-1DE3-4A71-BA97-940F3EE6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86C4C-0195-43EA-A3AD-11162547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13CE2-887B-4243-BA29-D2ADF22E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E22E9-CC66-4CF0-B095-71B15A51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993E0-52BF-4746-A94A-BBEFF1F0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C5D8A-F831-43FA-BA68-B9238DE0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8CE17-6547-4BB5-B486-79FC000B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EEAF5-2C02-4ED0-8936-7FD9F724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63B72-DEF5-46E5-9237-8AEFE885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C0503-B582-4246-BDD8-21DF74B8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3C231-BBE8-4A5A-A9AC-BB89BBDA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F5FDA-6EED-4577-B1C2-A658D4F7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C0BC1-EC50-4BC3-ABB8-613CBB70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37C5E-B5CA-45D2-B909-D9E56D1A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78D60-5673-4317-9AB8-2618C97E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DB69D-7497-4EF8-AA23-F214DFE4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1C472-2063-467F-8CFE-E3EFBFC5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0419E-B771-4465-B789-B8694454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C8B9A-2D54-41A8-8557-A07C378B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B3EE9-B689-498E-9F2D-479D7D6C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53742-789A-400F-8BF4-8EFDFC8E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7EF7C-C1B2-4AF8-8C5C-2E1D0ADA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82AB1-A938-4143-949E-E4EBF353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85A76-CF87-4628-9EAB-1FAAF2BB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FCAA3-53B3-49B7-ABB3-88D36F9C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D026F-5D48-4856-A3ED-66ADAC3D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E5128-9003-45EC-B1AA-FAC27000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9105A-8E31-4BDE-B43C-06AC065D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6BD6F-3EF0-4B81-969C-DD9DABA5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2FD78-C16D-4181-94CB-B0517463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6A577-6185-4FEF-9C4E-B3B6397D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D493F-49EB-460E-8216-E49A2F38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F6D44-433F-4DB2-A539-CB8A6980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9EEDE-4CA9-4536-965D-2F0196DB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FA4C-151F-4ECC-9E61-16746A368E3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F8D3-E85C-476C-8DD3-7E76077A4B1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C9FF-3D08-4DD0-BB78-583F611B5B8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497C-F086-4759-AF34-72F15DD765A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054D-E34A-44F9-8992-40E62E48C80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3A13-5D9D-4761-8688-D663AAA39CA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FD2C-3BF5-49A4-9AD8-143A62B8B2E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2054-3A43-4154-83DE-DA014710E21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CC9B-54D6-4C19-A426-4300C9D97EE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C5EA-5E29-4F11-9FD5-A27EAB5B738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9236-2BF8-4C6A-9948-AB3576C73D5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4A4B-759C-4D3B-ADA6-3D463BFDC41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4568-6389-4110-A869-95590ED3530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36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42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1:57:10Z</dcterms:modified>
  <cp:revision>50</cp:revision>
  <dc:subject/>
  <dc:title>Diapozitivul 1</dc:title>
</cp:coreProperties>
</file>