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3ADA-753F-4D3E-AC20-56A5B13E0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006-E4F6-4AA6-8F5D-DEDD3BD5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A76BE-136D-4A9E-89A7-8360F4A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19BA-CB31-4820-98B2-56255EEF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D583-DB2A-4A02-8F95-BEAA3F1F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7768-3066-4784-988F-7A0777B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A0B7-8E45-402A-BD4E-8B4028C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0562F-4A20-4E52-AF0A-24AB41F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8D5F-6207-45E2-B3B3-C9FB924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95FC-1F47-4FA9-95AD-30AC5B90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A683-31AF-43E0-81B1-1004F18A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B3EB1-8877-4600-B20B-9A62A52D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378DA-34F1-48D5-A110-C7571B69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42347-86E5-437E-BCDA-880E17B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0D56E-0621-4604-A81B-93EC888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40A4-19D8-4B0D-894F-D921F2D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B97D5-9BA7-4666-8D2E-DF05328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9138F-F73D-499C-986B-5F42242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872BC-325D-4FFC-A77B-B3297CA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4E1A-69EF-4660-9CC3-4D99806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338D5-3A0C-4BA9-B75B-07D837E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5D127-7B7D-4409-94B6-7BFA495F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877C-524E-4907-AA7E-5DF7153D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09067-6D85-4828-8B67-DEE42410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D6707-26A9-49FC-963A-BEEBFF7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DAFA2-76D2-4F37-96EF-C27DED6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63580-49B9-4BE4-A61A-0645F60D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3EC7F-BA94-4DF2-AAB2-03C472CB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7D28C-C08E-4745-92CE-ADCF832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50E04-38DC-41F6-A6FA-6A8DEA3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3CA23-2F74-4FE8-A900-D016FDBD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0451-7D15-4297-9A2B-B710404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01F-E917-4E69-BAED-62211923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B294-9615-4B46-8673-6B15609E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08AC-A8AE-49CB-861F-B80772DF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E680-7A1D-4B33-9C6A-44517D77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863A-606C-4A71-8F19-E6912C4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9892-5AAA-4F45-9AD0-2C9737FC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75970-454D-428C-8029-D2B5FF5D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5BC12-E2AE-4485-B2A7-1C0A057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06C1F-C1EF-485A-87F6-37FEAB4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DB6D-61C9-4824-A34C-EB8E608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B2B67-FCAB-454C-B20C-64B584C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770-46C3-40AF-BFE2-93F08F4A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F9557-00D4-4668-A6E4-E14A521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AB33B-34FA-4E91-B5A2-5C83FCD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CC98F-BD62-4102-BE98-28ACE8AB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62E2-1808-4AD4-8CAD-7783AAC3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0C75-ACDD-41B2-8434-10DD7ADA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DE0E8-0E48-4505-822F-964F10B2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D25C-7F55-49ED-A079-628A5FD4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B55CC-0BC0-4A03-A1F5-CA91E19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0FA41-A9D5-45FA-A4E0-1C2985D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AD213-E84F-4BC3-960F-349A51D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265-F246-428C-AC5B-00D82E05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A36D-D0A2-45F3-A343-3B80ED86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95677-1095-46B4-91D8-4146CE3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EE161-432A-48B9-A566-E41CB19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D350-CDBE-43FA-9475-B6A566C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F895-729D-46CF-BCE3-13261752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0D8B0-DDB6-49B1-992A-4769BF6F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4EADD-D70F-499A-861C-7CCB8A6D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7392A-8790-47BD-9B81-59E6D27C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BDC7B-E4DB-4D45-AE35-0D39E84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0DD64-69ED-4383-84FD-069181E3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70D-318E-4B1A-9280-0BE6A7CD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11FAB-4C07-4439-9065-C72D020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D1CC6-4163-49EC-B090-01C8660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2B4AE-9887-4143-8816-1CD8334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A1DDC-26A3-4798-B0C9-3D1E213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4C872-0967-4FFC-9421-838AE1A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49C05-7F61-40ED-B67D-F9620F1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E61F4-A07E-4C6E-AA54-C9A26BA8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40EF0-0BA7-4D14-AA34-375F31E2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E45CE-5B07-467D-9744-BC59C912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A6A-FCF1-4521-822D-4510E8A9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B2D-C169-4050-BE51-2C86CB8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56C-A320-4D50-92B4-DA72BD9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8D8-5BD1-4646-B15A-A24250C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B48-757A-4F85-A310-0D66477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204-842F-448F-85AE-53067A0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D7B-2F99-497A-AC22-751868A8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BA8-36EF-444E-BB36-D486EBFE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CEA-DD2C-458C-94D3-78C785C2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F59-B291-4EC7-920D-0C6886B3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C97-90B7-4145-BDEB-F087BE00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DA2D-6E0C-458A-9876-18B6DDCB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FCF-A9F5-44E5-B9E0-30C745D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F433-473E-453D-9C52-496AD86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68A2-319D-4885-AF66-A0A5C6F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571-305E-407C-88F5-EA96192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B4D5-6DB6-4C79-B8CD-408F196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3354-3FF5-4723-B8A9-C44DC2B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030-57CF-4849-8CA0-7BD480B8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B56-A1B8-422B-855D-A210AE9F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A00E-1C73-4718-83B6-6BC5AE0D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7096-0132-4B9E-85EB-933BFE2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E4BC-B0B3-4C42-8ADA-72FCDC1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FE75-E638-4561-A609-A98F2F1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6723-8C8B-40CD-9094-D09BF3E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D2A3-7364-46E9-9B8E-6C6D326A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EBA3-50F2-4FA4-9457-7A59DD3F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CA1B-79E7-4697-8A71-6EF9433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9674-7347-4074-955C-46BEE3D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CCC6-D5BF-42A5-AFE0-132EE81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DACB-B093-45A1-95E5-0170B192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E040-7A24-43B7-85AB-ACEA83D3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43FD-E656-40C3-9E35-B43711C1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0376-1748-4D2D-A404-77F0DD1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ED5C-233C-41A1-8918-30244C02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C538-6634-4927-91D6-BF40E45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23C7-7075-426B-B49D-A8DE92C5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E2AA-AF26-4BEA-A9F3-F0AB208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7ED8-2C02-4D8A-AE5D-0248310B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405E-C055-41D9-9972-06FF754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3FC1-55C6-474F-902A-5940CBF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9F9D-92EA-4FD2-B61C-114099C5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6BB7-18FE-425A-ABDB-879EB864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7057-DDC9-4D81-A483-11513CD8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47FD-8BBB-4056-B6CF-D55BE317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E396-4691-4B2F-A043-CC61CFAE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59A7-1474-4350-8BC3-3F28047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3BFF-3ECA-4A58-9E92-F9B2469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37B4-5A1D-4534-ABC7-A124F1A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B61F-9080-4531-8EDE-4C79266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0048-8678-464C-8D06-9390F6A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9A8E-B35D-4082-9BE1-D7B5AA1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B6FB-1ABE-4CAB-9C45-1A01A8C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FD00-03E9-4B4A-B992-1521AA8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19810-13FE-444B-932A-F06FC8BC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169C-94C1-45E2-B330-6EE52640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8322-8678-4F7E-AAA1-8E414096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E228-A300-4E66-AF45-B3D7F87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7FE4-268B-4C1C-B14F-6A48AC46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C4937-59D7-4A30-AFBE-53D67E1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6A6E5-C6AA-47C0-AEFC-7601617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13AAC-3DDE-45F1-B1BA-3073830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C14C-809A-4808-9A79-85416CB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298A-5322-4C94-BF90-970FF72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BF6E-121C-4AD1-ACA1-1CDB0E6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F1FC-BA96-4D3E-AB4B-E4E92FB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96C0-AFE9-46AD-AAA9-3B8CA43C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5D67-7ED9-41F3-971B-6BEED59D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5846-4CAA-4615-B4A1-25F79C4B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7C9D1-6736-415B-864A-F4013CB7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926CB-26FE-4B5D-8E80-42C8EF5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9C8C4-906D-41CA-8BDA-4956CDE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2630-2D9F-4CCE-841D-1E33C75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7F4FD-F901-4600-BE6C-E2FA30ED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B362-71BC-40D8-969C-DD38E56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620E-2E43-4A3D-A06D-5DF21A2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7AEC-7F1B-422C-B80E-FF65123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F5A7-2A45-47ED-97CA-801272D1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909B5-C478-43FF-8FC0-96FCCFD5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C44B-6BF3-4F6D-B15B-C4D995ED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EFEAA-2D69-4F9B-8720-F487CB2F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5D98-1BEF-4ACE-90E1-95A8CCC2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67B0-D83A-4AE5-8614-D0FDEEE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091-914A-4032-B327-AE873DE75F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78B-FFC0-43A6-91C6-AA760C8450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B856-7DA8-4E91-B9A0-907015D91D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288-8F04-47E3-8F0F-C0B9DD0A49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F112-B23E-421A-A474-ADE9BD923D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50D3-4C67-420C-A91A-F08F1E814B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CECC-F8C7-41C3-ACF3-ACC8147AD6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A0D-0655-42C9-841E-EEB097F80F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1D3-C3A2-4216-98FE-D943930776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DDE-274B-4BAC-975F-705A7237D3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8E4-5AE3-4E4C-86B6-E142ED0B56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782-B6C8-4D6A-9CB0-56B7DED310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920-5DB9-4F7B-B298-02614F3460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51:57Z</dcterms:modified>
  <cp:revision>49</cp:revision>
  <dc:subject/>
  <dc:title>Diapozitivul 1</dc:title>
</cp:coreProperties>
</file>