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2C7-8FEF-4628-AFFC-4D3FB7A1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BDCF-9FD4-4139-A2BD-93B6947A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08ED-EC70-40BC-BBE1-303FDDE3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3792A-2E88-437D-98F1-7A820E4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DC46-7481-4E8D-B61C-56AD0EDA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B4F01-2585-4914-8776-80BF150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1581-6767-4C2D-88DB-C3D77F4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90C97-2573-42F9-A86E-1991F35A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B4621-0F00-4881-B496-A1F31E0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A30B-AD06-4385-BEEC-7B4D9E1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84F7-F043-4383-B83D-02D6D1AE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6BF73-DDE1-4246-9FF8-325D3C85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801C3-7F0B-4326-B7F8-50882A9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A5BE-E275-426C-B60F-BCAF335C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5B5A4-A16D-44A6-8E7D-9CCEA05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3A2B7-3DFC-4DFE-B1B3-624092A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8FB6D-BBD8-4D6D-8E39-F17D0846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412BD-E6A1-44E9-91CA-5710BA7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CDE9C-664D-4C16-B9FD-F500F25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C69C9-5EB2-496D-836D-934493B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180E8-7B66-44CF-B59C-EF8A145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7869-F35F-4165-BB19-51C956B7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659B1-B38C-49E0-97B4-9BBECA8B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0104C-305C-47BB-98AA-B7196010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AB7F9-82AA-4395-943F-B35C172A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3B106-0DE4-40E9-87A0-ABD272B1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AEE3D-A9B6-4085-A524-11D3A443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6FFE0-D821-43EE-B6B8-9C581E20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7197-3CAD-4944-8A55-88D77FDD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B2BED-C4D4-4E0B-AB7C-BD6D0C4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BF129-02B1-4F07-89FA-87F33BA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98022-C4CC-43F4-BD48-D6724BA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26A-5CA0-475A-B77B-492F6F3F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29B79-0B06-4484-9520-2D87C018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DF52A-C19B-441E-8818-51DF68F6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E51AD-8E4E-40F0-82AE-588804A0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EEEFE-A3E1-4BB9-B277-4E9316D7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E49DE-DB37-4E90-A91A-2D781FD5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6D70B-C4CE-494A-B226-095714B3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229B2-686B-456E-BF0A-2040740A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5F8AB-D24B-4411-8292-632BE9B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F89DC-B287-4AD6-8AE6-362A2983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BA2E0-2BD1-4E94-A6A9-4B900C1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FE7-CA30-4B2C-852F-E7F4448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1333-23F8-424E-8974-A22C7C1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4639D-7B8D-4B45-9829-FD57FE51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173A7-C4FF-4815-A66C-B8196FE5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356C8-138A-49ED-A367-DDF49478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8A84-66FA-4167-B321-459EFF1D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FFD17-BA28-40E2-B2BE-6581FA9F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2283A-6DF2-4ACE-9C9D-C44296A2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8E9D4-5229-4B31-B83E-2F979E4C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EE342-103B-411E-BEE9-25EC016B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634B1-AF21-4118-8787-64C2DBC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E07-9B51-45DA-A0D2-86F4AFC1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B38B5-2DA3-4DA5-8CFB-4CF3D73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777B1-28D8-4FA3-8148-530C13B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E1F39-5B83-47AB-9B8C-FE21FF3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48F7F-9B80-4293-8520-630B87A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9CE05-8CE2-4239-B476-1B1DCD7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4A8D8-D929-4856-A82A-7AB5E504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2C414-AE18-40CF-BF22-9790954E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FE880-E274-444C-AB48-1D5B6BF0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7DE94-354B-4387-9842-8862713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0B4C0-F8D6-451B-82D2-36697C3F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E42-EA6F-40BF-A394-FE02AA13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F9A35-C9DE-443B-9560-3BA2590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9D251-AE71-48E1-A894-CE9AF7EE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98689-9A85-48BA-AF83-285B721A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DDF9B-AB4D-4A93-900C-F9E6D8E9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CD956-4BCE-4C88-A5BB-1114A89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29400-3B1C-40E2-A085-396C560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E741D-4FB4-4188-A1D9-D02B1BF2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6D9DD-54AE-4054-9DE0-9278FE57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40EBC-4758-4375-8389-C86D56D9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55B-B418-46EE-97D1-F13F4CEB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A13-AE50-47B5-8255-BE5DBBDF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3AC-5754-4788-A033-C15ACEB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E5F-52EA-434B-B9AA-2F71489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121-51F3-4B01-8F8C-250FD98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480-A884-46AE-B3CA-C579923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F63-775C-4B4B-BE25-1220779A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F57-FED8-49A6-BC46-A314E257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954D-5EA0-4778-9316-060FB53D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FC52-8791-4831-AF5F-1961F15E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B94-1662-4DDE-9C76-429E0C61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40FC-17E5-45F2-A336-F4BF9BE3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3A18-3603-48C9-84D1-CC40BDBC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096B-F5C7-4E6C-B5CD-DBEEC020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181B-2BCF-4635-AC8C-32D6AC2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40FB-3A71-4A4E-9FF7-CC62DC8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D92-93A9-4AFC-B56A-858C4BC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619-41B6-4ACA-8721-A0C6BFA0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3568-0C4F-4FA9-B555-62C89C58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B4C-54DF-4B02-8C87-2CAD83AE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48B0-CAAB-465A-BF84-22492564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D002-1B56-4CDA-898D-21F498D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5BF7-E902-4D66-813D-89DAD91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68F3-502F-4EEF-A4F8-D2A8656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BD42-6B17-4D5B-94A5-184CC3F4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02F7-30D0-44E2-8E4C-748FFB4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9B79-1067-48BF-925C-A78BB2C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F230-A689-4894-9BA5-7240438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AC49-3BA0-4776-9113-CF366E95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8D3B-2BD4-4517-96E4-DAC43C69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D807-48BA-4855-B5CF-6450DD3E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B090-29C6-4A6D-B0DF-60782F07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B079-9C4D-4CFF-9254-CE53B7FC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0A2F-7DFA-427A-9A7A-4FB16700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2B98-BC08-4F60-B10D-6D5BFF3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720A-FA14-4605-9440-8CCF46E6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D8D7-2FDA-415E-A802-7915772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EEF5-4DA0-4FA7-BDA3-14CCFF84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6902-7635-40D9-88C8-A93E4F9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E366-2B6F-4613-A150-5A52A98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603C-EB2E-49E7-A8A8-932DC4B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41A7-DB65-46B3-930D-908DA777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A8CD-B107-4E34-88D4-C606D99B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5E77-A987-4D79-A903-5E2CB0DE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31F1E-D6D2-46E5-A097-7456C395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4DEA-C47F-4DC9-BA37-6A28AF29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084F-580B-4448-A274-4718DDC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813B-F7C9-4D06-85AF-15B28E3A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CEB7C-ED71-4D4F-91E5-BF63C9F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68CE-2E28-406B-BAE3-B3D1BE7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522A7-9EC8-429D-9438-2B18C8E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2CB8-FE0C-4C83-81C9-9C58FD89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68FC-A36B-4E73-B1BA-91A5DB5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832D-2C4F-4436-8587-066D730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D4B6-B23A-4C92-8803-1C9D0F99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1551-B280-4153-B3A1-709447AF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C3A7F-7B30-442D-AD11-27C0EAB3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E2EB4-321B-4D32-8E12-E773E839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A0A8-FFEF-4522-B54D-90D417A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E65B-782D-4DAE-B30F-4D496CBD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EB3F8-E525-4A5D-A8D3-99ACCD7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CBB4-FA8F-49F9-BC60-EA67020B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8442-186F-4C11-BE12-F3D5156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0270F-8589-4E30-A39E-A3D6DDF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CD42-D1DE-44F4-85C8-FC2683D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174C-6CCF-4F70-A28C-309D7AC9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ACEF-8073-48E3-BA5D-98ED8E88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41A7-EEB0-4307-806B-2A5E21BA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1A4DD-6776-4C9F-9CB4-5CEA20A3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3561-222D-4159-8084-9C97CF1F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622B5-3A29-4328-946A-8536C86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D4DD0-782D-417F-A2A6-EAC84897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DB4B-5B3B-41D6-9DB1-8DD7D0E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0195-54F0-4649-94EF-1AF8CB0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D6A79-62E2-4C43-AEDB-EF5C32F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23741-6DA0-40E6-B31E-E6B8347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473E5-4124-4A0A-B408-21AC12E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A96F-EC47-432C-A852-27A00D7B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73F3D-2DBD-4FD2-94E2-1B58C855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EC71-AC18-46A7-91E2-CD7E20F7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9AF6D-68AA-4035-BEE4-F7F7FF49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6AF30-AC58-40CE-ABB1-A7D52872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937B-BBBA-4E11-AE6C-00EFEAB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86D9-7F80-4B97-8545-7FACEDE9A8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67B3-AA6D-4611-8D8F-784E29D322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B265-4D69-45E2-A702-2DCCCB8D7D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BF56-4811-43D1-9ADC-F4D0653605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DFB6-6668-43AB-81A7-8FA0D1190F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FD5-235F-454C-8B9C-2FEFF6A90F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086D-5C4B-49B2-A9EA-23975A0BF8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A2EE-3C5C-4F72-8E51-DCB80E8C6E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707-0E87-40A2-A2D5-5814061028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974-74EF-4D0E-9274-6E18795193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7AEC-CC45-444D-8571-2D8C357727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4AC7-774D-481B-BB7F-AB8299211F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4AB8-1712-4A11-87FB-621322E3A3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45:22Z</dcterms:modified>
  <cp:revision>50</cp:revision>
  <dc:subject/>
  <dc:title>Diapozitivul 1</dc:title>
</cp:coreProperties>
</file>