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074-CEFC-48E8-85A3-E03DF4D7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F1C4-7BA9-4524-8EEE-F8FCEA23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1171-36C7-4B09-96AB-8BFB692F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79D2-1172-4CF7-8B1E-1FEDAFE1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5E9C2-E110-4932-B3B0-E1F4AD7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0F64-D852-4932-996E-92D4F73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4ED04-6006-475F-B389-B5974ED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8F82A-A2E9-4784-813A-59FE307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6C39-46AA-4E50-A90A-D73014E7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4B05-286C-4DC7-B484-006E2E48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E33FE-48D3-4325-84F0-19A6030F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5652A-0B60-421B-95E8-9207242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9C6B3-AE03-42C6-8E69-07064AF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3BE74-B483-4E66-8A2D-3A10C6D1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E6549-A1EC-4D46-9D69-ACAA155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CA225-6466-4ACF-9A1B-253F76F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0D19F-F4D8-4CB9-9F3C-F6259CB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4D3E-7760-4D17-9DDC-75A9745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9079-8C47-4876-9E89-0BDBFDB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DBB2F-22C5-43EB-977F-ABD60D7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B2076-3E6B-4FB6-8C03-A360EA24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4FEE1-3805-4ED2-8E9C-AA30074A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6B422-05AF-4B71-929A-B4F07476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E0F3B-F84C-425C-BF6D-FB319D01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6AF1-30DD-4088-9753-C8777C85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F624-F157-4442-A1F2-4C7938D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4DD07-D10B-4997-99CB-19C98C2D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42F61-CC7D-44C7-AB6C-DEE62D6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2718A-639B-49C8-9937-271D940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7F04-6AA2-4DA8-A9E3-DFE596F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A955F-84A1-4B44-A898-4A16E8C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3EC4-CC7E-4CE7-B678-C0C207E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C5F-982A-46DA-A2CE-CFB7457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DF8E6-D180-4943-974E-0EC88EB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3A451-C926-426C-A7A1-3CF96CEA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AB444-3082-404A-81B8-F80FCC04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B5FB6-B890-47C7-8C72-CCE9F6C6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DCD2-78A3-46A6-8475-041AA90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288B-9C33-4362-BD09-3C379C0F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BCDD-C9CF-4A31-8D77-4E77CD5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4FC8-B0B3-4ADF-919E-4859A568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7C766-713E-493C-AB3D-ACA2B2F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4E690-FB03-4462-9819-5D6E476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623-892B-49CA-87DA-AD3B3E85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EF4D1-7C6B-49BF-B36D-72AF5DE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308F-2ACF-4B29-9D63-B29C015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927BF-5077-454B-B588-2D083021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673E9-C9EF-421A-B62E-50E0F62A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6608D-3710-45FF-8395-E17B657F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CD61A-E3F7-42F3-856A-9EF19034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1D4B-062F-4FAA-BAE5-0671E1F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C7325-36E6-4C88-8E14-F20E44C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590C0-5C09-4A3F-BBA2-C021E395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B1A31-D37C-4187-9773-074369B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D5E-718A-4D7B-A864-B274E91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089D-91C5-4D4A-B227-5513AE1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9B8DB-2A21-4760-A9BF-E2012E5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BFC1D-B2BD-46D2-A5A9-6F008ED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0CF69-2FA7-438D-829F-C18B262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CEAE6-A716-49F6-A8C7-D47EEB0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06F5D-57BD-43C5-9065-58747F5B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E271E-183E-46D7-846F-5D377263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61016-DB16-48F7-8A32-354C8DBD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21D0A-0582-449A-A0D2-B1D7746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9EE60-5B97-4346-8283-341BC3A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D99-91C9-4C5A-863F-F2AA647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1C9A6-3A33-4094-AB22-1ECBBE3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13E86-7307-40A0-95B1-BAE5012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AA145-E930-4353-B593-137A39A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305E0-B23D-4809-B81B-1BB8A7C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9C32B-AA7E-49DD-A552-A3EABFD9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2409E-412B-438D-8A14-5C79000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6E0AA-4FE4-4DA2-810C-5951513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58AB8-E7A0-4EBF-9757-6A802E96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92CB5-6DE7-4645-AC56-29FED1A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FE4-C8CC-45D4-BDBF-2C98F2E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156-C280-4C91-8AC2-3CBA1C1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B0F-8AA7-450B-A5DB-ADED4521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B6E-1095-4BC3-823B-1F81DC2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182-C460-47B2-886B-73E81ED0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61B-D88F-48E1-BC66-74EE9DC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00D-DAA3-4ECE-B597-1F3EB49C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3B-76D9-4671-8368-CD806FD7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58B-9742-4B6F-BA24-AC49D104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FAFA-4F52-449E-8025-1147A3A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4A3D-E453-4FA4-A410-1BCB6C5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B3E-0710-4886-8761-7668EED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905D-3F6E-499C-B4E8-5E31625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8E7B-A8EF-4313-96A6-CAE06A75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CB92-8451-450B-908A-FD22274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6CF-D69C-4F63-B168-6AA0297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6EDB-9C27-4AD1-AF2A-9B14746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B9C-C434-4E4A-AA9B-E06C52E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DB7-8316-47A8-B66F-A5811EBB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2CF7-A24C-4A1C-8F38-AB130D16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1052-BC4D-4635-AA9D-8FBEFE14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C416-37F6-44A6-928C-A505A506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2C95-9410-4DB8-AAB4-21D6221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F022-6CA8-4574-8BAD-DC28227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FB51-1AA8-4595-8516-ED0C85D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B67E-EB80-4AD8-9943-8DA3280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3051-3498-4A67-AF4B-A217B16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E131-19C9-4D52-9CF3-0BE450C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5F5B-662C-4C39-B804-CA14235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74F1-32FB-4E53-930D-FB044B60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1AB8-5D4A-4F1C-83FD-27E57556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E3B0-F9DD-45B2-8F39-F84F0C30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C5A7-6A18-40B1-857D-5EADF9C4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6D82-8780-4A51-A4D6-D4848A19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71DF-FDEE-442F-8FD9-072A57C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BD90-E82B-43E4-ABCA-D685AA8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4199-6E72-4EA6-9D69-4C20E84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6C86-450F-4DF1-878A-C9CD06F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E2C0-8431-4F73-8570-D85D9BE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A838-CB12-4544-9D4A-D9900C6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FBA8-DB5C-49D2-AF8B-3800AB9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7285-2591-4EB7-9E86-898B459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36F4-3388-466B-B25B-6DEA6321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2C49-5F1B-4496-B31D-527295F1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45C9-E8E0-438C-9469-C6E302F0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59BC-4A19-467D-969A-4113B29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8660-CDC3-4E2A-B1AD-75E837A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637B-C399-4FD3-8820-5F8DEA0A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03B6-54E2-4684-96F4-D0B94BF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C530-733A-4441-A6FC-F58D1E5C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2AC1-C452-4591-8836-DD8C1DF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59A9-523F-44CC-8357-C1FE08A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D56B-716B-41A4-93EA-9E3FCCE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825F-3CD1-4DF0-A3DD-C20A0A1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63F2-F6DB-4D32-AA85-21474C97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74A7-B390-4930-9CFB-0B8C1FA1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2C15-A534-4A31-AC48-71176C6A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2978-8FB7-4A72-BFD8-80013DE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D89A-58BD-42CE-BC05-A9E71A0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2358-39F1-41D3-8748-5CD0B719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FD9B-06D3-40D2-9E07-8EC70396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D45E-A050-4B7A-A910-E213B72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8C0B-25DA-4367-8473-412C55C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927F-9AB0-43A1-BA7A-254CD4BB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6031-05F0-4989-999D-08E5505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A220-2D00-4721-94E4-C8D60BE7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035D-0828-473B-9A9B-A3C20ABB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0DB5-A109-4674-B31C-744D8898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404F-3968-4D6B-9E88-E8C6200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62E8-28B9-43EC-9B6B-1CFBE0B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D6F6-96BE-4B47-84A0-633BD88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83DE-7FD1-4891-A0DC-9D7747D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1716-4985-4595-9E15-6B52DC1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8C35-62E5-4E02-920B-D2C1534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4F19-9B5B-4684-B9DC-48B7E25D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9EB0-870C-4D8C-AA5C-064D9E2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86C5F-E156-4511-99B2-5F5B5C7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ABEB-AC83-488A-B61C-3492423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BC98-A3EB-404B-9BFD-FB52CD16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B6F9-4C84-4041-9240-54561394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36D3C-33BF-4318-BB14-181C37C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06C71-5A2F-4AF4-B0D1-A2AABFE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6A43-ED18-4D67-9BED-FAFD781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328-09CC-4600-9997-2D4EC71477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F966-89AE-489C-A8E3-7AB31E7C90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5CC-C4D9-40FB-9442-56F96F32D4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878-0C10-4392-8B2A-9EA146199B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07E6-20DD-48F2-BF2B-6FF2D6F8DB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BB88-6415-44E1-99E3-AF8D556E3E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B602-515F-4AB8-AC56-678D30F595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980-C2DD-47A1-B2DE-A7B7901E29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B9D-176D-40D0-B291-6FB913D6E6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E28-FFF9-453B-B436-303F1203F4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7CFC-F46C-45DD-A732-848A928FF7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C778-0199-4C97-8095-79BDAB8777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Chi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chi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73A8-D81D-4747-BAE4-461C890E24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42:53Z</dcterms:modified>
  <cp:revision>49</cp:revision>
  <dc:subject/>
  <dc:title>Diapozitivul 1</dc:title>
</cp:coreProperties>
</file>