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A87-2F74-4CE5-9387-1FAADFA5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9AF5-2D66-44D3-950D-7118F24D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4A2F-5BC8-42D5-BF7E-9E78E5C6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3F291-F91D-4A44-A8FA-A012C9D6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4963-E9E9-44CE-BF0C-453F3B0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6FD9-91DF-415D-B1DA-0C1BAF1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D358-CD2D-4D67-A0BF-68C6152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1472-B138-48F4-BBF6-A9D37A7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0BAB-1376-47BD-B863-B69EB40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E0CEE-3EFE-4F01-B734-54D39F3C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E72B-67B2-4053-AE67-7990E770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BD58C-14DB-43DB-9CBA-05D6792A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CAB00-FAAB-4BF0-B0F3-F15802C7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48AB-7F17-461D-A304-B99BE45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A8D0F-D680-4EBF-80B7-4DCD26D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3A4E8-8A44-4B86-BC84-1151735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956FB-02D9-4C2D-9505-CACD814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EFD1F-932E-469E-A5FC-CA0C315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6AB9-45B6-4F9F-BA78-BAE68AE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D007-F644-48DA-A67E-860D0C6A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9777-BDA1-4E7D-BE6A-7E1577A2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DF16B-63D6-4C01-8A3E-3BC5E678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89A92-A5D3-4AB7-AED9-F57D0455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92D6B-082F-45F9-B962-72DB450F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8F114-2502-4511-8B83-295D8EE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F740F-DFAC-427E-AB4A-568A16E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7C9E-BCFD-4F42-A68B-AE429B96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D694C-E838-4467-B66C-F97A0BF1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3BC0D-5374-4019-8DF3-F99C1BC5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2047B-86E9-4A87-B409-F556A66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EEF0-0F65-4CBF-8A70-376CB74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FF6DE-582F-45A9-A21D-0F79F4B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BC5-4F40-4F11-BF78-29250B3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CA78F-6065-4959-AB31-679C1CDF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AD19D-FB68-4B62-9564-B8CB5FB9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3C6FB-7239-4376-9C38-858BC603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C080-CC59-4B2F-AE60-B791A2A0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E3DAE-C12A-44BA-9E56-0264003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ECC71-A741-40B1-840D-428569D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7274-C9B2-4193-968D-BD41975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A02D0-CC3C-473F-ACBD-D680D4E5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06D5-4968-488F-B7B7-01413F16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A1E7-A828-44F2-BFB7-22B15C4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E73-3278-406A-A03D-A56EBC5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CFB7C-3693-4631-A205-9F49885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65C4B-9F2E-4EAE-80CB-2E718F7D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E4A41-8CF7-4A1C-A52B-633A3C1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0172-770A-49C5-8A81-5311A2D1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7573C-CE91-4186-8A58-476706A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6A388-0C50-45A3-A417-3BDF8307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4E58-5262-4712-8A1D-2C4FCE2B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1935-7AB5-4259-BC5A-A3288C8C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73A0F-FF70-4D21-B7EE-593CE192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9D918-A0F1-4DDB-9A72-774883BE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498-3C2F-469D-905A-2412FE0F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4FED4-6E0C-484C-9A4D-46A0B36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9F5CB-631B-491D-AE1C-3438491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CA120-10DA-4238-AA06-0677ED2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DDDF4-B07D-4F92-8188-46E5379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21701-5893-4A39-9038-45EEC39D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FFAE2-A30D-42BA-BE3C-1E5B0B6A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81E0C-5978-4D1A-AF54-9077F686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5C9EF-652D-4A4F-8ACF-489C9EF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528E4-EA20-4338-AAF8-060A85E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CB778-FDDC-4DEE-923F-948C5A0D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2E9-12A5-4F24-BAC5-3CA0D32A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3430A-598B-4FAB-81B6-ED582C6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1C236-EB99-4B56-B898-F762C098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2F627-59F0-44BB-AF47-C4D87A4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64BC8-198C-4099-93C3-855DDEF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2BFFF-91EE-4F36-99A0-7DF22194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337BF-1621-4EA4-9848-8B3CDAD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D0B25-B21A-4951-B32C-237B976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444EE-413E-45B3-A853-BC8E0F34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13E41-9FEB-42D5-8DBE-2F6CE942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513-C40A-4232-893E-BB45895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063-0514-4691-A59E-3A727C6E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D02-99E0-4382-816D-3F76BD7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E27-84A7-421F-BEE7-413666B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C5B-44B5-496C-9081-53F7BE9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712-8024-4D18-8807-28B94EA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FF6-ED2E-413A-BB93-941E93F1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5BA-1BB6-4BFB-B64A-45DD5ECB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F9E2-FB45-40C4-86C2-13E1AEC6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5EDE-C15A-4D0F-8A4A-F97E3C4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2058-CF3B-42A7-829C-25A4E22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933C-74A6-49BD-BA6E-73263D2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0EF6-95FD-4F7E-847B-AD76D42E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5FF-D5F5-4005-BF5F-AF258F2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AE1-9590-440A-BF41-A793E11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79ED-44B2-49EA-B4CD-BBEA7BB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573A-6D09-4E32-B734-E627D8E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924-DBAC-4171-A49F-8C119C9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53F-B51A-4915-B910-B5A5191D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5CA-65CA-4B20-9B92-5B036CDE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9DFE-CD7B-48FF-8C2A-86905124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5421-3115-4407-8A7D-4E5B811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8F3A-FF49-4239-A72F-BFFB20E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CABF-5C57-42F9-947F-D49A539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7F98-6C81-4CE9-8449-7CF02730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5D1B-F058-4C90-A0FC-0E2E1B7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FE43-43F1-43AD-BC4D-616A903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73AF-8A8B-4922-A08E-6F3142C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EAD5-9075-420F-89FD-66E70D1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B44C-1D6D-44A4-A7EB-551FDD2D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1B8C-EAC2-4373-B024-ED3212B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E290-E641-4E4F-8F32-02FC9B16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7FA1-F73C-4B85-897B-D1674996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1B93-4701-4AD9-AAC2-63812BDF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9BE1-4D08-4D6A-805D-B5BD69F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35CB-A60A-4700-9237-B9F2110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9057-79C0-466E-8B9C-B21F41C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163B-4B4F-404E-9539-E6BD34DC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9E51-86E9-4593-A564-411EAF0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F4D7-2CCB-4D8B-BE2F-C6A7CEC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0672-3FA7-481C-8561-0C71346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016A-FF9E-46FC-9097-011C8326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2000-A8FF-4B2F-8C99-2D419327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37BF-6105-45A3-932E-35564632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90AD-5B17-431B-8952-6905D1F5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F9A2-8601-4B60-B90C-6744394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7C1A-DC06-4BC3-AEE2-AE766E2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8FF2-B4A7-4304-8ACC-B438A46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0E9D-452F-472B-AF6B-8FE696A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E941-FBC9-4ED9-9A5C-6A53EA5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DE31-EB27-4ED1-9DDC-AF30FB0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78F7-904B-407C-A7F8-5FF70D15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F7E5-DA0E-422A-BBED-B202DA8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8C66-4FBE-4546-8545-D4BC5EC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0D8F-6137-418D-84B1-41DE1EBF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28BE-991E-4C2C-975F-C87DB4B2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1B556-BFD6-4620-8326-08EFD240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B17A-4811-4972-8686-7A4CA4B1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4C36-EC66-47D4-99D8-DCE0D56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2A9E-694D-458F-9204-4B0847C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75A2-1FFE-4101-9E02-0FE62053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9C89-122B-4FF7-B32B-B18E178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8327-9E21-4C1C-BAC6-AB89801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D7C3-AC74-4ED6-913C-D36A043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E274-F9F0-477F-93EB-E3C3A419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EEF0-661B-42ED-9BA8-2D23B9AE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A830-2A4D-4248-8E75-FE24413F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F972-B574-4843-9EE6-8BC1E192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1E9D2-5A10-4533-BE34-4B54B8A4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72CC-E406-4C36-B828-699A470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23218-ED77-48B4-AD3D-2EAB23C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1330-CDE8-43A7-844D-2BDA30D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D299-08F0-482E-A83F-5265C02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629E-D16A-4BF9-B42C-91FB3A46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99D8A-903D-45AC-8AEB-40F6E1B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DBCF-FED4-45D3-9D58-1952649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23E5-C0F1-454C-913F-630BCA9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98F7D-A5C5-4657-84F9-DB12C83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80F13-98F8-4750-83CE-0B9F3E27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42D3-CA2E-47F4-9235-39A7FE49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C8A4-1889-4A56-8B00-C048877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9C3D-4239-4575-8B93-0A168224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CDB1-CB09-4A74-97DB-69F36CB7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61C-89AC-46BB-B2DD-8599AE1583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3699-1BF5-4FA4-9E97-3977448FAF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9BA8-07A0-49E6-8CCC-7A59C5864B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0351-E870-469B-BB5D-45EA7ED0EA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3307-169E-4EC3-BEFF-5EA25F0E4C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B8C-5D89-4076-A853-35DFC74986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CAE-ECB5-4F0C-9999-7A2CBA54C6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6B6-5F85-470E-A47A-E83539F23B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579-1C16-47EB-BDD6-F24EF0CBA5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B8D-50C9-4006-9EFA-EBD272FAE0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E982-66AF-4748-9D04-3966DF18A4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10C-DCDA-40FD-926D-723987FDBB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F7A-E925-4FEE-97AA-9200CCDA9C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22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28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3-04T06:20:44Z</dcterms:modified>
  <cp:revision>54</cp:revision>
  <dc:subject/>
  <dc:title>Diapozitivul 1</dc:title>
</cp:coreProperties>
</file>