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0382-6E12-4F71-BBB1-BF117AC87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8C82-B9C3-48A7-836D-31D6998D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78877-92A8-48B2-B0B3-CFD48CB7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FD9AB-65AE-4EA8-AB87-14BA56DF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832B0-76DA-40A9-9212-2B28D31E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AAA3-5395-478A-9729-3F6BABB2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6562A-4D80-4546-9179-4F47B5E0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38234-3E8F-457E-B8C6-C0C65DAC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D76D6-1D47-47DA-BCD7-98B9A91A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37853-AF7E-4D83-B925-3E38D860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CA16A-DB93-4276-9DB3-3221D3FF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DB42B-99E0-4F2D-BE27-AE090C67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DF0F2-FBFC-4804-91ED-CAFCBD09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89B2B-DB3E-44A6-AEEB-44AA1C78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CEB86-08EF-45F0-ABD0-BD82A969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3E900-1EBA-4C27-B2F4-94C6EF97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06642-690E-4983-9E86-A5A50B50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CF1AF-38B8-4992-81F2-8D744E67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0FE0F-011C-4763-B3AF-1CEEB147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F5FDF-227E-403F-BCCD-C1397B15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CBDB2-E977-4974-9426-BAB1B54B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4BA88-F52A-485E-B07D-685B8C22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59C93-1A8E-49C8-ABF0-4510EC77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51EE8-98C4-4782-87C4-B1C1EECC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D8B34-CFF1-47AE-9732-F79A85A1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10B3A-482E-4AA6-BE1D-C7865953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BEDE9-A599-463A-9780-D2BDFFBE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B747F-ED36-4F05-99E2-ACD8AA93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E9733-ED48-4248-903E-FC2048DA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96F82-2454-4E1B-BC13-F791B24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FBF50-AF6F-48C5-9F40-96F29F82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8AE60-69FF-43D5-B465-FC6FDED6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3E1-6EE6-47E5-ABC8-8441D801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20681-E221-4B8E-B63C-3DC0F55C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84955-5E51-4E30-B693-1156C038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8465C-2F93-45BC-A0FF-FCCA456F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717D5-CFA0-4AC9-B6EF-DDB725CB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A6D4F-04CC-4A9F-B421-58BDEA4B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E73A5-DE75-43E9-8747-37210BFA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D62D0-D30D-436D-BF0E-A4D47C0C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B5A1B-A40D-4632-94E8-6E4364B5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98DB5-3855-40C4-93CE-7B7DBDC1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3EBBE-7994-42BE-BC89-09D4570D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844-204C-4931-9A27-87D33F76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6C8DE-8EA6-4629-81B7-2BEB5990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588FA-3FAC-4743-AF93-0788AF90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5C1F4-22A9-4B51-B4AB-3D5289E0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E1585-2190-4671-BF1A-D55CE00E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1328B-3DE9-49EE-A4B5-42DBC1E2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40911-DED2-446B-AF81-5C847E35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85B07-DB18-4EC0-B597-A2A583C7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D63A9-93C2-429F-B04E-9BF1C12D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29A91-D7A6-4347-9735-091DC4BF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79CAC-3EF2-4D4E-BBDF-ABCDD24F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9E7-F231-4A5F-A5D2-78483B28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D3497-23E7-477D-992B-8204F317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00477-D9B3-479D-9650-51B3E89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ED6BC-8FF8-462C-B8F3-85B7050C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2F90B-39F9-47BC-B7DE-75A3070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B2365-327B-40B6-8123-C6E04E30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9201E-7AFF-496A-8BD0-BB00FF9A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B971A-B913-4E60-B2F5-16860041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9046F-E888-40DC-9ED6-2EDB174F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520DB-C1DC-438F-B4E2-880296B8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33DF5-22EC-4CA9-B358-563F4328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BC9-8165-4749-B11E-C2369927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BD3AE-B819-47E0-A2C9-BE13B4D5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39644-B79D-476B-84A9-E4C0BAB9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9D401-4AFC-4B6A-8674-AFB6B49C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E596D-37E7-4F2E-B76F-8E051E90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36B03-E32B-48B0-B1FD-80CAFF48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07E8F-C8CD-4B95-A740-12F23671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EBB01-BFC9-47FC-B963-689A173B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AA9B9-05AD-4D20-B108-B956B84F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1AC89-9BC2-4CED-80CD-23A4CE5C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85D1A-7953-4788-9BAA-81167057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F68-3B0B-4106-AA5E-6309C7A0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EB954-1648-41FA-949C-E3C59236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1B3F2-6699-4687-B0E1-2EF3A6CB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75E69-9493-4A10-9329-708EC490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4947F-EF22-4CCF-894A-DEA2D53C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FB97A3-FC40-4727-B6B7-2602A6C6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DF251-F158-42C3-9E71-590CC55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2AEF5-5A79-437C-A438-2D6A60FB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2FF0E-AA87-4B12-9D6B-1546A982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FBD8B-E8EF-4F1A-8AE9-1DC18DF6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89296-2CD1-4E9E-A2D5-17C85DA1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A5F-D7BC-42F9-982D-15FAC8AE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5C973-EF37-480A-AFCB-921CEF4F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148-26E3-4548-B062-0617472C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6BE-C4DE-45FC-B683-05307FCE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CEE-808A-49A3-B8AD-A222C61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584-78C0-4F68-BC70-EC00D7DC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CC1-9268-4795-865F-0D5D8695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1BE-108F-4872-B382-CE19CE9F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5BC8-0751-42C6-A5F0-64CB8DA7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6208-36D6-4196-AC9D-87B7BC7A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E892-9CB3-4DEF-8833-2AEA0046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96DE-A647-4433-B311-23D2B6D3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30A0-A2FB-4FC1-B626-F3EBE065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BE2D-BF1D-4B70-87AC-AC07D155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A79F-0BBD-43EC-89AC-815A67E3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4495-15C7-4B99-92A8-A86F19CE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4A4E-E99A-4CDC-A11C-97351487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D9A7-EC53-4C11-B2C1-77E2B24D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02CF-EB8C-4B09-85F5-436AE53B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6B1A-1BE6-4085-8F18-7EAD023D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387A-8F0E-4412-A1C3-BEFB95E2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2AD94-EC9C-4DE5-98A4-806A0012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A9F08-A27F-4C74-A990-25A630BA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908FD-2C13-455B-B9BB-5A4B5668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715A-6361-4F9F-8461-FC7870ED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1552-F0B6-41D6-9FE7-805FFF49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04FB-F03D-4245-B20F-5628F27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3D47-9196-4001-9D1F-D65DCD3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F8D0-78B0-41A7-8992-68415CE4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F4DB-8556-448B-B35F-FEBF4576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90BA-A0F4-4CB5-9E71-36936747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7991F-5146-4C91-B3B5-10EF755E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BB158-5DD9-46D2-B037-73FB5738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7E2BB-C202-44E6-952F-5897850A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786F-470C-4448-97ED-816E9307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167EE-F3DC-444E-96E6-EB091170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D494-105C-44BD-A938-9040C257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02A3-B74A-49D6-B01B-0C839683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63DF8-D4C3-407E-9DF0-F5034B2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E3D33-AB59-433D-AC50-9CEF76BE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DA68-2BC8-434B-A7F7-2A774BF5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D407-010B-45F6-B3F3-B6FF1F00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0F71-E56A-458F-B169-081D0F5E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E9A5-4DF0-42A0-B512-93E6C907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B6625-869F-43AB-8D76-4EBB15FE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16D6F-2188-43AE-9F65-3F4AB874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7B47F-0965-4C2C-8B10-F8953C9C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DD214-2D37-4BC5-8302-21F66329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CDC59-8365-4ADC-BD5C-38DFCCF9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99398-BB58-41C6-AA2D-9C684FE3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5B0F6-37B6-435C-A686-75D30E5D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CAD71-F29D-45E7-9A8D-5AAB4562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7789-4890-4BCB-92D9-14306245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6ADD3-2D4C-4021-A317-C958057E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77261-1812-40B0-9B39-E05D3DBB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5C839-B287-4CB5-B6F3-47FF17E1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4C18E-58AD-4A68-8976-CD4DCAB1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1792B-9361-4B86-934D-0BA4CF1A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3CA6D-17AE-4267-8425-FA42E375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6EA00-0CDE-4606-8A7D-D7E07AD3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BEA79-23D0-4088-B2A6-722215FE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A3A72-FF03-4D4C-A214-5F4A4275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B3126-AB88-446C-9EE5-2B539394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B61C5-13B1-4C5F-8061-46972862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855F1-D7E2-4A6A-BBA9-9206BF8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97C5-0EFB-4F94-A2E9-FA144569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FF997-FAFF-4F22-9E2D-A06D273E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6B672-D4FF-4F6C-B323-6CAB88BA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18A6E-9B3F-47FC-B52A-3F6AFB6A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4DC8C-E351-4F78-903E-5ED064B7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86E16-045D-46EC-B85F-952D4C42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A7718-0FB3-41A2-BC3B-B9696D1D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9E1A8-4841-4C46-9AED-0A96EAD5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301E8-691D-428F-90B5-0F1B4C32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8316C-5256-4AF3-AC65-67D18F53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D763C-D5FF-4816-B0AD-DC298B5C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683E2-8E48-4CB2-B7DA-92109C75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FB7B5-C284-4D32-8AF9-8D568CE5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C0857-1DF8-420F-B3A5-EB98F155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A53DC-DA57-48B5-AE2E-893796DD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4ADC5-5024-4EB2-A7FD-9CFBE99D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7119A-F909-4745-A299-0D9F2AC2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0661B-1727-4EDB-A32B-BD6EA41C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5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408F-6CC3-4232-88DE-8F9B38B47E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39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98C0-3D46-4D1C-9841-2E71C0E8C0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3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2F2D-3FDB-46D7-B6F3-9D0C9F887A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7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E31F-8951-4FD2-AE06-769003F95C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B0BC-CA0D-4F49-9A94-27F7A40E66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615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6591-172D-42A9-981E-CB105DFE9C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3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1795-C981-4022-968B-DA61C549AC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7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0A5A-E093-4FBA-BB42-750D3BAEDC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2477-1581-4765-8944-2C55D15864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5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5D24-A68E-4579-87C4-D8ED1B69D4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19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1025-A0FD-4E64-ABE5-7786314759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3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A0F7-9FCA-437F-9E63-9DBC80724B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7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98E9-B1BF-4A0E-BF36-E44EAF6D9F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\\dell\la_toti\150\identitate\embleme\biologie.png"/>
          <p:cNvPicPr/>
          <p:nvPr/>
        </p:nvPicPr>
        <p:blipFill>
          <a:blip r:embed="rId3"/>
          <a:stretch/>
        </p:blipFill>
        <p:spPr>
          <a:xfrm>
            <a:off x="3429000" y="618012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1" name="CasetăText 8"/>
          <p:cNvSpPr/>
          <p:nvPr/>
        </p:nvSpPr>
        <p:spPr>
          <a:xfrm>
            <a:off x="38862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B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3E16-841E-4793-8C30-5EA78833A1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80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86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1:37:15Z</dcterms:modified>
  <cp:revision>48</cp:revision>
  <dc:subject/>
  <dc:title>Diapozitivul 1</dc:title>
</cp:coreProperties>
</file>